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4C0F-8377-4BE2-B193-A0A19667A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A37FE5-22ED-49D9-A35F-C1AC291D58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48592E-4A16-4FF7-ABB8-55097317DA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3B519E-337A-4C17-8D60-F5033FF6C9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C7239C-7117-4DAF-9034-1FA7EAE0FE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3D932-DE60-4EE7-A322-97D56FB51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30A54-974C-4075-8047-EEB1101D0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D61F9-CEF7-4C67-87D2-007577D86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BA728-8276-4EE4-A1DF-B95D40F95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477C7-3908-4775-BE79-CD02B77CE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C74A7-B36A-4018-B8F1-1138F7F00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2B339-E01F-4AC0-8567-752B0D825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DFE3B2-5AF6-4302-A942-F9F9CCAE7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F100E-A637-4A15-B62F-C9346C864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7C2E5-62E0-48A7-87A7-5045031B5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C424C-5741-4153-AB95-BB70BECAB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68298-860F-460A-9202-1E573BC2F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042A18-15D1-43CF-BDCF-797BBCE24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C2C090-4D30-4BDD-923B-121E2A8E4B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FA6C52-3A1A-4948-9250-225ADFAD1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684684-ADF7-4A2C-AB66-124830D13E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16AC9A-33F9-4E39-BDF3-D58CD47C3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1F70E7-4633-443D-9658-E78B40490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9D231F-E4B9-42C8-9A4B-B1455B873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B83AB6-A65F-45A7-9F4E-57F5A8B69F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9668-AC4B-4B86-BAD2-FF1E2EDF07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DF65-B828-4A95-8205-AE69CBC467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228600" y="198072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class="c.q.l.c.turbo.UserTurboFilt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User&gt;sebastien&lt;/Us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OnMatch&gt;ACCEPT&lt;/OnMatch&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MDCKey&gt;username&lt;/MDCKey&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g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6-11-29T07:49:35Z</dcterms:modified>
  <cp:revision>13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