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10.wmf" ContentType="image/x-wmf"/>
  <Override PartName="/ppt/media/image7.png" ContentType="image/png"/>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82B095-6C4D-4400-BC0F-B0A96C37A8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9DC8CDB-ACEE-4337-9BC0-82A1F0087CB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115B9EA-442C-4442-BBF7-F378DCF3B03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77169D8-FE27-4314-93A8-61961833879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4B31A78-390C-4178-8F90-31AC6FE46BC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19D6B90-8A00-4831-9F49-4F38CD7CC15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2B2D2F-2D45-4E3B-A880-70F98A1A4B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DBA7A7-DE82-407F-A048-B4E5FC8A3E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34CF3F-C585-4303-B7E9-AFFDFE70D7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528411-1495-4249-A9EB-588694CC39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04BC1D-4BB3-4622-BB17-E014190FE8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95D1F7-4282-4D3B-AB76-4AC90E26DE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2BA45AA-A665-4505-A61C-3B4CB900A9D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32ADCD-026A-47E8-95BD-95C3A393B0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C838D1-6B80-4A80-A8B9-E1FF6C767B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88D90B-3E46-4E8A-B84D-AF135DA8C4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2CB2F74-5F28-4637-ADA7-7EDEA2D5B90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790F603-CFC3-41E0-BF49-2FEEDDCF658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9F713A3-639D-44C0-AB38-71C9818A61C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D8B9CDC-65AB-488B-857C-7B39C7561FD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F9E9A04-6D3D-43AD-A96C-A749B887035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DFD1892-8E69-4B9D-AD30-5078987EB3D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4A9BE5E-36F1-4AE0-82A4-7C22CDD474D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853F64F-774F-4E73-A809-215CAB807CC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D58E83F-C709-489A-9018-8D3E9F1E2B48}"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3D129A-B849-4E36-B192-67B7C45C19D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5E034E-BE66-4C54-AC60-47F46E6F9EA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hyperlink" Target="http://jira.qos.ch/" TargetMode="External"/><Relationship Id="rId6" Type="http://schemas.openxmlformats.org/officeDocument/2006/relationships/hyperlink" Target="http://jira.qos.ch/"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5187F17F-96C0-4D62-8B2A-788211004CA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40" name=""/>
          <p:cNvGraphicFramePr/>
          <p:nvPr/>
        </p:nvGraphicFramePr>
        <p:xfrm>
          <a:off x="457200" y="2176560"/>
          <a:ext cx="8229600" cy="3494160"/>
        </p:xfrm>
        <a:graphic>
          <a:graphicData uri="http://schemas.openxmlformats.org/presentationml/2006/ole">
            <p:oleObj r:id="rId1" spid="">
              <p:embed/>
              <p:pic>
                <p:nvPicPr>
                  <p:cNvPr id="141"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4B1165D2-5C59-4082-B0B3-83615128AA9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43"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9D75D518-A834-4A0F-A70F-A0E029D94B4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5"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87DABE3-6306-47F2-A5DF-F1766A0CD59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7"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F03324CB-33AC-4D4F-A16D-5637700E06B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9"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B2ACE5CA-903F-4F39-B217-58A4F9D973F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5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F09A2E0-24A5-4BFC-9123-06A28D8CA40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24B0047-704C-4219-B2B1-6B7EB9F5C55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5"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11CA8DF-894A-4C6C-B934-19F4C471EE2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4CE599B-D846-4BF6-8300-7B826C0AF40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9"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4F39235-8531-444A-8517-4044E1A5B59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6F8E1EF8-4CC5-49D6-8D3F-63B316B6212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61"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9F973E3-25AB-4553-8B5F-E6685891A71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63"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2F71D6ED-4EAF-462D-B332-B5B95CB1F93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5"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AEB0D849-6BFB-4E7F-A5A6-85A3DE60134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7"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503CBC42-0AB5-4A39-B778-111C14244EB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C4DB312-A265-46B9-A2E5-90AB601CC71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62F7D8A-4143-4B78-9EAA-6405F56E3B4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1D53481-174F-45E7-AAAC-A5DC36B9F86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C5EB1F7-4E41-4793-BA25-A796CC0B5ED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7"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a:t>
            </a:r>
            <a:r>
              <a:rPr b="0" lang="en-US" sz="3200" spc="-1" strike="noStrike" u="sng">
                <a:solidFill>
                  <a:srgbClr val="666699"/>
                </a:solidFill>
                <a:uFillTx/>
                <a:latin typeface="Arial"/>
                <a:hlinkClick r:id="rId5"/>
              </a:rPr>
              <a:t>jira.qos.ch</a:t>
            </a:r>
            <a:r>
              <a:rPr b="0" lang="en-US" sz="3200" spc="-1" strike="noStrike" u="sng">
                <a:solidFill>
                  <a:srgbClr val="666699"/>
                </a:solidFill>
                <a:uFillTx/>
                <a:latin typeface="Arial"/>
                <a:hlinkClick r:id="rId6"/>
              </a:rPr>
              <a: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B04F48B-3C95-4719-9B92-F4319F0848BC}"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3F8D27EE-11BB-4136-BB59-274D4DCA2AF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4933683-4BB5-4459-BA8F-2B241A11F67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LF4J in one slide</a:t>
            </a:r>
            <a:endParaRPr b="0" lang="en-US" sz="4400" spc="-1" strike="noStrike">
              <a:solidFill>
                <a:srgbClr val="000000"/>
              </a:solidFill>
              <a:latin typeface="Arial"/>
            </a:endParaRPr>
          </a:p>
        </p:txBody>
      </p:sp>
      <p:pic>
        <p:nvPicPr>
          <p:cNvPr id="128" name="" descr=""/>
          <p:cNvPicPr/>
          <p:nvPr/>
        </p:nvPicPr>
        <p:blipFill>
          <a:blip r:embed="rId1"/>
          <a:stretch/>
        </p:blipFill>
        <p:spPr>
          <a:xfrm>
            <a:off x="3276720" y="1066680"/>
            <a:ext cx="4998960" cy="5334120"/>
          </a:xfrm>
          <a:prstGeom prst="rect">
            <a:avLst/>
          </a:prstGeom>
          <a:ln w="0">
            <a:noFill/>
          </a:ln>
        </p:spPr>
      </p:pic>
      <p:sp>
        <p:nvSpPr>
          <p:cNvPr id="3" name="PlaceHolder 2"/>
          <p:cNvSpPr>
            <a:spLocks noGrp="1"/>
          </p:cNvSpPr>
          <p:nvPr>
            <p:ph type="sldNum" idx="2"/>
          </p:nvPr>
        </p:nvSpPr>
        <p:spPr/>
        <p:txBody>
          <a:bodyPr/>
          <a:p>
            <a:fld id="{B846B68D-26B5-4CA2-94D8-5406B829BD2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30"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jul, log4j and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BC69740-7315-4301-A2A1-7A206B8A8D8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grate all jul, log4j and JCL calls (without changing a single line of code)</a:t>
            </a:r>
            <a:endParaRPr b="0" lang="en-US" sz="3200" spc="-1" strike="noStrike">
              <a:solidFill>
                <a:srgbClr val="000000"/>
              </a:solidFill>
              <a:latin typeface="Arial"/>
            </a:endParaRPr>
          </a:p>
        </p:txBody>
      </p:sp>
      <p:pic>
        <p:nvPicPr>
          <p:cNvPr id="132" name="" descr=""/>
          <p:cNvPicPr/>
          <p:nvPr/>
        </p:nvPicPr>
        <p:blipFill>
          <a:blip r:embed="rId1"/>
          <a:stretch/>
        </p:blipFill>
        <p:spPr>
          <a:xfrm>
            <a:off x="609480" y="1905120"/>
            <a:ext cx="7543800" cy="4359240"/>
          </a:xfrm>
          <a:prstGeom prst="rect">
            <a:avLst/>
          </a:prstGeom>
          <a:ln w="0">
            <a:noFill/>
          </a:ln>
        </p:spPr>
      </p:pic>
      <p:sp>
        <p:nvSpPr>
          <p:cNvPr id="3" name="PlaceHolder 2"/>
          <p:cNvSpPr>
            <a:spLocks noGrp="1"/>
          </p:cNvSpPr>
          <p:nvPr>
            <p:ph type="sldNum" idx="2"/>
          </p:nvPr>
        </p:nvSpPr>
        <p:spPr/>
        <p:txBody>
          <a:bodyPr/>
          <a:p>
            <a:fld id="{2F2CE59A-7C37-4570-B8F3-A51F6B42545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533520"/>
            <a:ext cx="76960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 better, faster, smaller.</a:t>
            </a:r>
            <a:endParaRPr b="0" lang="en-US" sz="4000" spc="-1" strike="noStrike">
              <a:solidFill>
                <a:srgbClr val="000000"/>
              </a:solidFill>
              <a:latin typeface="Arial"/>
            </a:endParaRPr>
          </a:p>
        </p:txBody>
      </p:sp>
      <p:graphicFrame>
        <p:nvGraphicFramePr>
          <p:cNvPr id="134" name=""/>
          <p:cNvGraphicFramePr/>
          <p:nvPr/>
        </p:nvGraphicFramePr>
        <p:xfrm>
          <a:off x="380880" y="1905120"/>
          <a:ext cx="8293320" cy="3519360"/>
        </p:xfrm>
        <a:graphic>
          <a:graphicData uri="http://schemas.openxmlformats.org/presentationml/2006/ole">
            <p:oleObj r:id="rId1" spid="">
              <p:embed/>
              <p:pic>
                <p:nvPicPr>
                  <p:cNvPr id="135" name="" descr=""/>
                  <p:cNvPicPr/>
                  <p:nvPr/>
                </p:nvPicPr>
                <p:blipFill>
                  <a:blip r:embed="rId2"/>
                  <a:stretch/>
                </p:blipFill>
                <p:spPr>
                  <a:xfrm>
                    <a:off x="380880" y="1905120"/>
                    <a:ext cx="8293320" cy="3519360"/>
                  </a:xfrm>
                  <a:prstGeom prst="rect">
                    <a:avLst/>
                  </a:prstGeom>
                  <a:ln w="0">
                    <a:noFill/>
                  </a:ln>
                </p:spPr>
              </p:pic>
            </p:oleObj>
          </a:graphicData>
        </a:graphic>
      </p:graphicFrame>
      <p:sp>
        <p:nvSpPr>
          <p:cNvPr id="3" name="PlaceHolder 2"/>
          <p:cNvSpPr>
            <a:spLocks noGrp="1"/>
          </p:cNvSpPr>
          <p:nvPr>
            <p:ph type="sldNum" idx="2"/>
          </p:nvPr>
        </p:nvSpPr>
        <p:spPr/>
        <p:txBody>
          <a:bodyPr/>
          <a:p>
            <a:fld id="{98595104-F08D-4687-85EA-78E43D537B7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7" name=""/>
          <p:cNvGraphicFramePr/>
          <p:nvPr/>
        </p:nvGraphicFramePr>
        <p:xfrm>
          <a:off x="457200" y="2055960"/>
          <a:ext cx="8229600" cy="3736800"/>
        </p:xfrm>
        <a:graphic>
          <a:graphicData uri="http://schemas.openxmlformats.org/presentationml/2006/ole">
            <p:oleObj r:id="rId1" spid="">
              <p:embed/>
              <p:pic>
                <p:nvPicPr>
                  <p:cNvPr id="138"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19FCA21A-86D6-4EF7-8A88-91304B6A1EC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6-03T15:45:49Z</dcterms:modified>
  <cp:revision>163</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