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A58DAF-1D17-4EAF-944B-DB7A9150941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4E230D7-0F33-4B19-9796-75EBD5F6275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54A05D2-B1CC-4FF1-8C9D-8264F24BEC6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DFB23D5-D472-4F49-A9C7-53B32BF392E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513B96F-D1CD-4A24-95A0-9DD8DBDCD54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CA28CD2-48C1-484E-9467-C438D3AA895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44FCD2A-BAB9-4977-A1C1-A0DFA66B1FB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5CEADB9-9A3C-4545-ABE6-85E2D50FA7A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5D92F29-1BE3-4768-95EC-F83722F88CA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F805DD7-3B43-4F7D-8C2E-15712F3F4D3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81A4B08-523B-4508-AA81-4C26358B4C0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4F5D955-F5ED-4F8E-802A-BC6E4EF86E0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4EE364D-6762-4D5A-9DED-8F2F441ED35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7A0BFE9-F359-4459-9721-ABB8A8F7A24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BDD3B40-FB7D-4B88-B0C2-E727863D4C0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246F261-D4B4-4311-BC22-A812C630F75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6017B4A-8F55-43C5-A116-CBB8BE53441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8AAD4AC-1130-43F5-8709-4FB33CFE67B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1C66EE-E105-42E6-89E5-82BFD342FD5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F3023B7-FB01-4B9C-A40F-B9F54945F9A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1BFBD7F-A70E-4C01-B4E3-1B4398D1C69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4DAA576-77D6-4735-9914-69789EE2B05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911679B-84C1-4D44-B05C-5B13FC6CA04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331139F-223C-4915-965D-A0EE0D9B288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618F69E-4B5E-46AE-A06A-1B06C0F8F09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9E52E5-F08A-4BD4-A3BE-2313A4E742D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C6CAF7-6BE9-42B2-ABE7-8E551055CAB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F096308-4B92-4FC8-A470-8FD88CF7627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A6F81F-DA97-42F0-8757-CDAD231FFB1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58063E-5922-4EFB-A2B9-D0F207677AC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38"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D76D70-9EF2-4C3D-A31A-CCA322DCB49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C4C497-2BF6-4B3B-ADE5-C4CB8E01E2A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23F1D5-7665-4DDD-A8E1-7D2A4E0E6CF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F0B80F-011A-4A0D-9C8A-1BEFD23283A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BC0EED-C42F-4F51-9372-A2C37352903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E21CCC-6D32-4964-914E-95B7A0E3251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D01A735-263D-4A6B-ACB6-105AF973285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186A1C-A41B-4A22-BF85-88AB2DD32A4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32767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EA3EF8D-5321-4339-8FB1-E99D4E85C56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819820-FF86-4616-A7F5-53F027B6B92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CCA7FC-4D88-4872-8065-FB1018EFA0E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58"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5816AFC-1E14-48C6-A6D6-1AF5D071F96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0"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BF00EAC-C5E1-446E-95DC-BCAD1D8FFAD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 the background</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 in outgoing emai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61CD97-A92D-434D-BB14-A6010248FA6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6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successor of log4j.</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39F21A-5A21-4FC7-BED4-1E640BB5330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66"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77B6E9-7349-40D2-806D-64F563B1C2E8}"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375B321-D763-4C9B-BDDF-1827160AE5A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3927EA-004A-4810-B591-0B2ADFF50F3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B97DA1-6961-4403-9021-6294C72CA24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90BC2D-873F-4937-8EF4-E09A20FF6C4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BE6C9E-AE58-4987-A2C0-F05B3BD9EF5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4BE128-FB5B-4160-82B6-60F432A7319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B2FBD9-3663-4DE9-9E3C-7FD7E3DCDBA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9-17T16:46:58Z</dcterms:modified>
  <cp:revision>168</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