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438B-4A2F-4460-8A7B-2C874394D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13C2B-DC4D-434A-B523-27A95B49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6B1EE-32A7-4D20-AD4B-6E19950D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D217-F341-4099-A9B9-E3A37812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7E10-F6BA-499A-BD96-D2E7EB25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8D4A-77C3-4757-8DA1-9A5CC3BB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B18C-EE4D-4C4C-B847-363EF780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BB74-DF3D-42AE-BCAA-7587A7E8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7AF3-1ED7-48B8-978B-4FB4764C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B78A-8746-4B34-B929-2E020DF2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2527-D219-440B-B2F5-67C8BD20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270F-910F-4D3F-A11A-6EAD7D1F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C4C5-52A6-40A3-826C-ABFFC170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68EB-7937-47CE-80CD-2D39FE00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37C0-2967-4E92-867D-D3130326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07DC-752C-40F6-B029-D4285D80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F1E1-B501-4C72-B620-CF193201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2F79-ED17-4A56-A377-1D3D4A55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E296-E2C6-488D-A3B5-945E44D9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F4588-1FA7-4658-8F32-18DA7AD6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4681D-7660-4ECB-98D2-33D02D6B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A6B48-C988-4D72-B41C-6E48D602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42A30-4FA3-4AA3-A544-7C66EF43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41A3-48BF-42A7-85F6-D876E998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99864-AAFA-4B40-9DA1-3052E281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6625-87D4-4A7A-84D2-897AEB64F0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back ~ log4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zip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 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rate all log4j and JCL calls to logback without changing a single line of 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if you don't like logback and prefer JUL, you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ould prefer to stick with log4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</cp:lastModifiedBy>
  <dcterms:modified xsi:type="dcterms:W3CDTF">2006-10-23T21:01:40Z</dcterms:modified>
  <cp:revision>87</cp:revision>
  <dc:subject/>
  <dc:title>Slide 1</dc:title>
</cp:coreProperties>
</file>