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1A2E42-A0C7-48F8-89FB-BC54FCEFE61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626E257-7FE2-496F-BAB4-DAD6B95B077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E470D81-D81C-40C2-BD0D-EB262A9CDD7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320B4FF-C77E-470A-92AE-9C00054AABD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06BB345-1E1E-4521-817D-06DAAD0B764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BE80577-2149-421B-BF0A-F14FCA20FFF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9E7EC1-20D0-4DB3-864A-8826EE84CB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A60EA2-BA68-4DAF-AE25-6E21003CCD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160B76-B938-4A29-91DC-4A057CB96A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F3D42B-5EE5-4542-9902-B4A28598B1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642346-2F24-4600-A7E7-705FF1BF3C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CECBBD-1108-4D3A-8B08-DA95885E25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0822544-A532-4575-A2DD-21283F45E9D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1E1D76-7450-48D4-8AE9-92034F733C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4F4652-6DC1-42D6-87F9-731F5D3B0B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3A08BF-5AD1-4D93-AFC4-48D6ABD58C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7EEAAD0-9526-4961-8268-8023ACD4021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5027F9E-B132-4110-8336-5E73FC04DF8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2F9BF94-EECB-4BD1-85F5-8B9D88CD4DA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49AE3F9-CF01-4BE8-BF60-DCCA4D23B86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5B6303E-5564-4694-8FC6-277B6906643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8181BAF-903D-45FD-877C-4425F667929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8DC7C59-9DF3-4FA5-88C9-FE56489D7D3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C052D4B-305E-493B-938E-1F29E66B87D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34CA484-7DD2-4B0F-A5CA-39A2940634E5}"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E53552-64DB-4D83-B0BF-3F654742376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5397CB-718B-4E9F-9F22-ED18227D260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irc.freenode.net/#logback."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B64A66BF-749D-478A-9969-F49233C64B5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746B955-C1FE-4433-82DF-627BDF7F98A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41900A4C-A61E-4950-BA16-F309D0B5B5B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B48A2982-F623-4434-9874-9204B37EC86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ED06245-27C8-41C3-ACCD-0EE35F79E48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37785D8-B534-4A11-8DDD-02CD5CE330F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11F46A7-FD5C-478E-A41B-EB208249A01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3CA6FB8-E6F2-4E06-AB99-49D401673FF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9BE3A73-2469-4FE3-83FC-B0B64682AAD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F927F68-ECFE-410D-B8DC-E00BB563C9F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5BF40F3C-128B-4D56-9A7F-1017DD2FC43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A8E67348-71B5-4B26-BCEF-2D8C5FD4342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E6C3BC7A-379E-444B-B14F-984432D5A16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05A5D057-A9D6-4E74-9D21-2ED3BC000DE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E193BA5-18E1-4F96-BB65-37C2D7CAD67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30299F2-2B01-4778-9EBC-74AC76E61E1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57809BC-6546-46E2-A8F0-30C283215D0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2072B79-FA2F-46B2-BD9A-E1EB9F6886B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bugzill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a:t>
            </a:r>
            <a:r>
              <a:rPr b="0" lang="en-US" sz="3200" spc="-1" strike="noStrike" u="sng">
                <a:solidFill>
                  <a:srgbClr val="666699"/>
                </a:solidFill>
                <a:uFillTx/>
                <a:latin typeface="Arial"/>
                <a:hlinkClick r:id="rId5"/>
              </a:rPr>
              <a:t>irc.freenode.net#logback</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C352598-62C4-4B65-ABDB-7CCED012E764}"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BE07E64C-9B48-40D0-AA20-FE9B80E5291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490D493-ACAC-4B65-BC21-DE4FBA3B4A3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8"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0DAF3DA-B11C-4E0E-8465-9F2BBE619E2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30" name=""/>
          <p:cNvGraphicFramePr/>
          <p:nvPr/>
        </p:nvGraphicFramePr>
        <p:xfrm>
          <a:off x="609480" y="2362320"/>
          <a:ext cx="7848720" cy="3332160"/>
        </p:xfrm>
        <a:graphic>
          <a:graphicData uri="http://schemas.openxmlformats.org/presentationml/2006/ole">
            <p:oleObj r:id="rId1" spid="">
              <p:embed/>
              <p:pic>
                <p:nvPicPr>
                  <p:cNvPr id="131" name="" descr=""/>
                  <p:cNvPicPr/>
                  <p:nvPr/>
                </p:nvPicPr>
                <p:blipFill>
                  <a:blip r:embed="rId2"/>
                  <a:stretch/>
                </p:blipFill>
                <p:spPr>
                  <a:xfrm>
                    <a:off x="609480" y="2362320"/>
                    <a:ext cx="7848720" cy="3332160"/>
                  </a:xfrm>
                  <a:prstGeom prst="rect">
                    <a:avLst/>
                  </a:prstGeom>
                  <a:ln w="0">
                    <a:noFill/>
                  </a:ln>
                </p:spPr>
              </p:pic>
            </p:oleObj>
          </a:graphicData>
        </a:graphic>
      </p:graphicFrame>
      <p:sp>
        <p:nvSpPr>
          <p:cNvPr id="3" name="PlaceHolder 2"/>
          <p:cNvSpPr>
            <a:spLocks noGrp="1"/>
          </p:cNvSpPr>
          <p:nvPr>
            <p:ph type="sldNum" idx="2"/>
          </p:nvPr>
        </p:nvSpPr>
        <p:spPr/>
        <p:txBody>
          <a:bodyPr/>
          <a:p>
            <a:fld id="{5E11B099-ACD2-4CF2-AE71-721336F43DF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3" name=""/>
          <p:cNvGraphicFramePr/>
          <p:nvPr/>
        </p:nvGraphicFramePr>
        <p:xfrm>
          <a:off x="457200" y="2055960"/>
          <a:ext cx="8229600" cy="3736800"/>
        </p:xfrm>
        <a:graphic>
          <a:graphicData uri="http://schemas.openxmlformats.org/presentationml/2006/ole">
            <p:oleObj r:id="rId1" spid="">
              <p:embed/>
              <p:pic>
                <p:nvPicPr>
                  <p:cNvPr id="134"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03196EF1-F907-4756-896E-7E9EC488135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6" name=""/>
          <p:cNvGraphicFramePr/>
          <p:nvPr/>
        </p:nvGraphicFramePr>
        <p:xfrm>
          <a:off x="457200" y="2176560"/>
          <a:ext cx="8229600" cy="3494160"/>
        </p:xfrm>
        <a:graphic>
          <a:graphicData uri="http://schemas.openxmlformats.org/presentationml/2006/ole">
            <p:oleObj r:id="rId1" spid="">
              <p:embed/>
              <p:pic>
                <p:nvPicPr>
                  <p:cNvPr id="137"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5F63CC18-9167-4F6E-B5F0-DD70DF72F85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60D9E835-2167-4E64-8857-D8D81FA4673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Gülcü</cp:lastModifiedBy>
  <dcterms:modified xsi:type="dcterms:W3CDTF">2007-03-12T07:29:22Z</dcterms:modified>
  <cp:revision>152</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