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2.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9.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204D47-8803-434D-AB90-1BE3DD0777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B6F59D1-2735-4A13-BE9F-E4A99C83EED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46295D8-00D9-421E-AC5A-0BF36FA6CF4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41EFC6C-507D-4431-9634-B609744C5D7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6CD52B4-1E70-4B64-94F5-E1CB699790D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81BC595-829C-412E-84FC-4AA89D2D0C7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52A5365-FD92-464B-A7B1-6F89E31712A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225D153-BA54-4139-94EE-BEDC82A5848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D195BC7-B1BE-445C-B4C8-2601AB2A491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4620FA1-338F-44F4-9430-E11EE57D4E7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A34FF29-1D44-497A-BEEE-CA6E4F12645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9FBCFA2-54A4-4453-8549-B5104D93749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9CC264B-7C54-4272-B041-8C377E91414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5CC9340-1A83-4250-8AE5-C05CB5F90C9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6F55484-98BE-4A60-94A9-96DE573D468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A2736DE-0399-4AA5-9673-EE28C529635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42F1879-F078-4467-88BB-6A136E40561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69C0FFA-B795-4F68-A31F-3F8C0F49E2A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E79A92-1048-4312-B8B1-AD8F13D9C0E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A65FDD6-473A-4B5E-AD0E-98057BC2F00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FB747F6-D79D-4FA6-AD5B-44628259B41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80572D1-12F8-4387-A109-E167C7F6FA7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18CD6AC-39E3-442F-9FAB-4997D368AB9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98965B9-A9EF-452D-9200-DECF00B3014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7AC7560-1108-46F1-A527-9D51F82545A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C54D83-044A-438B-AF6F-B5271485C9B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705035-909D-457C-A3B8-B30BFF13606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5B4DCE6-71DE-407A-BB98-900AFE8217D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65FF52-3D18-4D96-A3C5-5242D463BAB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C9CD4C-B2B4-4FB5-91F3-40ADDE7321E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38"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BFF92D-6BE0-45B4-AEBA-42DD42AEE21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4C05CE-04CE-4BBE-9B22-B8CDEDFD9E5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2E338B-A286-488D-AE64-D8B636353D7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4813FC-CDB7-4DC2-9DB5-B8AD323EF13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2AFF34-C95D-479C-9FB3-7E0EADD8A97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682165-C365-4AA0-AA63-A91E3F9B78A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30E895E-7FF4-41FF-A9F3-F4DDD5F6FE9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857BFD-CC25-4BC7-8C85-BF143840EC7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32767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2892CEC-81C2-4469-B6E3-2F95B3BD962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3D4BD9-210E-4B86-9C89-BEFFADA762F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3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C593C6-F27D-4567-9E91-AB0449A10D6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8DEA64-827E-4824-9002-3FEEA4009DA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6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log4j, with better code.</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134AF3-5B5A-42AF-8992-C09DFDDA9AC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62"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94C7E2-4CBA-4745-B4DF-DE2CB29FFDA0}" type="slidenum">
              <a:t>24</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A701E45-E726-48DF-BBA9-A95C770233C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2EFFC3-D3C6-4FFA-80B5-A95FC4217CF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81068C-1052-4262-80A3-EBC3745940F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4226E5-054F-4356-8C38-DB9F91A74C4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6A6059-0DD2-4686-8255-D07A66DB85A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7563A9-2AB6-4DE5-B3A7-DC80C53B78C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49D66C-0B09-45BA-9948-48C34D25ECA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8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8-09-11T09:31:13Z</dcterms:modified>
  <cp:revision>155</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