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C02023-C223-4FA3-A133-6B6DE06026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slf4j bridge (log4j-over-slf4j.jar), and the jakarta commons logging (JCL) to SLF4J  bridge (jcl104-over-slf4j.jar), users who currently log  through the log4j or JCL APIs can keep their existing log  statements (without change).  The bridge will redirect the log4j calls to slf4j which will in turn delegate to another logging system such as  logback or  java.util.logging (JUL).</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CL? Peace of cake! Just place slf4j-jcl.jar in you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class path. To bridge legacy log4j calls to SLF4J,  add log4j-over-slf4j.jar to your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log4j-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BAFE0F0-0327-41FC-A25D-CDD5F415767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973171B-EADB-42DF-B641-4AC1087D19A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DC37E9D-6E45-4BD8-9C77-3415CFFDADE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95E9BFC-D9E6-4102-9D3D-C153E9A449C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F6E22A6-7CAA-4188-9F7B-DCBF6FFD0A2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995F0E-B4E0-4DD4-BD27-60D398D828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0A01AC-5048-4CCC-9987-44C93903F6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AA8C9B-CCDC-44FA-8957-EA9637467A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40B8AD-2AD7-46EF-8B4B-E4C875B702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14E5C9-1BA6-44B1-A88E-DC6C34CC3A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A18C696-E4CC-4EED-9FFB-E258DD51A7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3B0A050-C75A-47B6-9648-17EEEAFDDA2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B7EE3D-B5FF-4E22-B6C5-1FBB9C47FD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63F2BC-ABB4-4261-816B-4F0888C43D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BCD454-FADD-4CCD-A869-71D746FF85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76B3D53-4D9E-4574-AEB5-A87422FBC17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133396F-C22D-4A20-8845-CEE88CB51FA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9A47ABE-3CBD-4E6F-8EFC-0581B349F8B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91270E3-9EA6-46C3-800C-DDFBE3B4463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56DF19E-4108-4CE0-8BD6-41F5ACCF11E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789237A-A59F-4441-BD2E-D526117798F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E1120D4-E0D9-4C8C-BE18-0DDF6C57C7E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B92BD48-4C9B-408F-AF74-AA7B2838DAF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143CA54-F58A-452B-83B6-3CC180EAF86C}"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F607B4-52CF-45E5-B4EC-EB5B991C025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948E64-15AA-4911-ADC2-82D17235AE7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irc.freenode.net/#logback."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806931AB-FD07-43C4-BF02-46755AF8A09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BE58D49-0EE6-4490-A7BB-166CDAE5018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ED1B30EB-7D18-46B3-BCC8-DB6EE42EB4F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00196518-A742-4436-8E71-ED726082B5F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B82519A-EBD6-49F3-9AD1-3BB5DE32C62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7E10901-354E-4F7B-9CFB-8EE3DDB1185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9B73F1D-8C58-409F-B5CA-2DE28B3D027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0085B0E-652F-4D42-8A99-7B5267B0A26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7C82916-498F-4938-B3CF-A647A1BEEB6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EE7887F-6266-42F7-B42F-351BF7BA1EB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719B7B0D-1942-4940-BCB8-1445C52C031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ECC10190-4CC1-4D76-AE6C-C5A5627B269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23139D1D-0F49-4B28-8905-1310F3176D2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839DAAC1-0E1A-46ED-B9D1-9AF0761436A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32832AE-71F7-4674-AEAE-8417EC9EDC9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864E890F-1DC6-463C-A335-6B085E6A510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9129660-A2DB-4A83-8133-A625D6B6882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0B20EED-44F0-4EBC-8EB2-C5604A872AA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bugzill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a:t>
            </a:r>
            <a:r>
              <a:rPr b="0" lang="en-US" sz="3200" spc="-1" strike="noStrike" u="sng">
                <a:solidFill>
                  <a:srgbClr val="666699"/>
                </a:solidFill>
                <a:uFillTx/>
                <a:latin typeface="Arial"/>
                <a:hlinkClick r:id="rId5"/>
              </a:rPr>
              <a:t>irc.freenode.net#logback</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FEDE83E-4CAE-4C3B-820F-082751BB9559}"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4ECA2546-5DE1-4717-AE95-75453F4A04AA}"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990F3E4-2830-4DC5-B56C-4EBF01A86AC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8"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E0214DD-FE96-4B85-8A76-EB112390FDF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30" name=""/>
          <p:cNvGraphicFramePr/>
          <p:nvPr/>
        </p:nvGraphicFramePr>
        <p:xfrm>
          <a:off x="838080" y="2209680"/>
          <a:ext cx="7925040" cy="3364200"/>
        </p:xfrm>
        <a:graphic>
          <a:graphicData uri="http://schemas.openxmlformats.org/presentationml/2006/ole">
            <p:oleObj r:id="rId1" spid="">
              <p:embed/>
              <p:pic>
                <p:nvPicPr>
                  <p:cNvPr id="131" name="" descr=""/>
                  <p:cNvPicPr/>
                  <p:nvPr/>
                </p:nvPicPr>
                <p:blipFill>
                  <a:blip r:embed="rId2"/>
                  <a:stretch/>
                </p:blipFill>
                <p:spPr>
                  <a:xfrm>
                    <a:off x="838080" y="2209680"/>
                    <a:ext cx="7925040" cy="3364200"/>
                  </a:xfrm>
                  <a:prstGeom prst="rect">
                    <a:avLst/>
                  </a:prstGeom>
                  <a:ln w="0">
                    <a:noFill/>
                  </a:ln>
                </p:spPr>
              </p:pic>
            </p:oleObj>
          </a:graphicData>
        </a:graphic>
      </p:graphicFrame>
      <p:sp>
        <p:nvSpPr>
          <p:cNvPr id="3" name="PlaceHolder 2"/>
          <p:cNvSpPr>
            <a:spLocks noGrp="1"/>
          </p:cNvSpPr>
          <p:nvPr>
            <p:ph type="sldNum" idx="2"/>
          </p:nvPr>
        </p:nvSpPr>
        <p:spPr/>
        <p:txBody>
          <a:bodyPr/>
          <a:p>
            <a:fld id="{5BE254DE-C366-47B1-812D-D82F1E4D374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3" name=""/>
          <p:cNvGraphicFramePr/>
          <p:nvPr/>
        </p:nvGraphicFramePr>
        <p:xfrm>
          <a:off x="914400" y="1905120"/>
          <a:ext cx="6935760" cy="3981240"/>
        </p:xfrm>
        <a:graphic>
          <a:graphicData uri="http://schemas.openxmlformats.org/presentationml/2006/ole">
            <p:oleObj r:id="rId1" spid="">
              <p:embed/>
              <p:pic>
                <p:nvPicPr>
                  <p:cNvPr id="134" name="" descr=""/>
                  <p:cNvPicPr/>
                  <p:nvPr/>
                </p:nvPicPr>
                <p:blipFill>
                  <a:blip r:embed="rId2"/>
                  <a:stretch/>
                </p:blipFill>
                <p:spPr>
                  <a:xfrm>
                    <a:off x="914400" y="1905120"/>
                    <a:ext cx="6935760" cy="3981240"/>
                  </a:xfrm>
                  <a:prstGeom prst="rect">
                    <a:avLst/>
                  </a:prstGeom>
                  <a:ln w="0">
                    <a:noFill/>
                  </a:ln>
                </p:spPr>
              </p:pic>
            </p:oleObj>
          </a:graphicData>
        </a:graphic>
      </p:graphicFrame>
      <p:sp>
        <p:nvSpPr>
          <p:cNvPr id="3" name="PlaceHolder 2"/>
          <p:cNvSpPr>
            <a:spLocks noGrp="1"/>
          </p:cNvSpPr>
          <p:nvPr>
            <p:ph type="sldNum" idx="2"/>
          </p:nvPr>
        </p:nvSpPr>
        <p:spPr/>
        <p:txBody>
          <a:bodyPr/>
          <a:p>
            <a:fld id="{701840B5-C35C-4868-A010-A28E7899550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6" name=""/>
          <p:cNvGraphicFramePr/>
          <p:nvPr/>
        </p:nvGraphicFramePr>
        <p:xfrm>
          <a:off x="457200" y="2176560"/>
          <a:ext cx="8229600" cy="3494160"/>
        </p:xfrm>
        <a:graphic>
          <a:graphicData uri="http://schemas.openxmlformats.org/presentationml/2006/ole">
            <p:oleObj r:id="rId1" spid="">
              <p:embed/>
              <p:pic>
                <p:nvPicPr>
                  <p:cNvPr id="137"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9C64C145-4423-4871-A3D9-76EA451C060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822886F8-BC23-48EC-BF3A-099A4E964E1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6-12-02T17:15:16Z</dcterms:modified>
  <cp:revision>145</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