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C7DFA-12CB-44A6-8050-66801C0514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2493C71-9525-450A-8094-4E135080939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6E84428-25A2-4C7F-9E95-060B00D09D3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31D9B0D-F14B-4093-9BB6-9EECAD3F384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1004939-0B18-4F4A-B7E7-E75BEA33ED2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E79B8C-BE4B-4603-8135-681E489592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81D76B-19A8-40C8-9D8F-C3C50900F1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5C1DB8-717B-46B9-8309-08858966B9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0F5BF9-4922-4615-A4C6-70534FF22C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A4D8F9-4D6F-4D11-97B0-D898643C6D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8EF113-4AB8-415C-99B3-F4A9A20EDA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8D8C9E-5FCF-4C73-B3EA-D4361DA918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4129C9A-1777-4C11-934B-4885D67D1A7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FDAAE2-5EC4-4D0D-91A4-E0F128C527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DCEB52-961A-4EFF-B0E1-77DE92CF85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0E0EA4-B27E-4531-98A3-5EAD908375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563CDA-1971-46F5-A882-15D99C8E84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A3CBD9-544F-44BB-8EF4-66EF9CF1D4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010CABD-931B-47CA-8F29-47D757FB4AB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A54334F-087C-43DC-9F81-8A1E742C43C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86C3951-949D-4A8E-813A-9B1F5DA9399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9055EE6-DB9C-44BD-8FDA-104F7F591FA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DA63EEB-F042-4F67-9E2C-DF0CFB12735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D0625E5-F3CB-43F5-A2B0-FFD96BB7BF1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FEA29D7-B7D6-41E3-833A-C8E6C630ADAC}"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D4A45-8AAC-49E0-BCCE-273CD465EF6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15413-3C58-465D-9C91-E166C7FDF48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DAB6A80A-9BCE-4168-B167-D0A0252BA05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3F2822F-8565-4D28-8F27-F5A94B7FAF4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1652D5C-EC48-4351-9A52-C4AC1FA8C26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819E88D-1A37-4974-9C8C-9BEFDC2D362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A32FAF4-137C-4B77-9CB6-E9E3286A155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8F197E6-D017-4348-AC90-25FB5280044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96236C9-2565-4276-8ECF-816BE208EDF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1F51DFB-5251-4590-96FC-762252CB919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4482F15-9FDD-485F-A4D5-0D39C10B37F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BE89DD4-0F5F-4518-98B8-3EB30A2D42D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E832997-9DD4-4C7D-B2C9-FA780185CAF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F1933A5E-A3BF-4B9E-B7D4-FEE1FE62A31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5B3B026-1F33-44E4-8FCE-9F511B1F2BA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9FDF683-ABB3-493F-A996-64C794F2929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8D69127-BC62-48EF-8D3C-16FE590791C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F167820-0C04-434F-BFA0-B57289968FE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5518D82-536C-4F94-A1B5-221B3A5431C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C01DAC5-5292-4B2A-8C3B-2D806C43774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0358993-C9C3-4F52-9B84-7564DF1D908F}"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2F03379E-884E-4BBC-B0CB-19ECB7E727B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BA4D273-8C35-4FAD-9D74-78E5253E52C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A553393-9866-420B-BA9A-AFFF84ADC2F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609480" y="2362320"/>
          <a:ext cx="7848720" cy="3332160"/>
        </p:xfrm>
        <a:graphic>
          <a:graphicData uri="http://schemas.openxmlformats.org/presentationml/2006/ole">
            <p:oleObj r:id="rId1" spid="">
              <p:embed/>
              <p:pic>
                <p:nvPicPr>
                  <p:cNvPr id="131" name="" descr=""/>
                  <p:cNvPicPr/>
                  <p:nvPr/>
                </p:nvPicPr>
                <p:blipFill>
                  <a:blip r:embed="rId2"/>
                  <a:stretch/>
                </p:blipFill>
                <p:spPr>
                  <a:xfrm>
                    <a:off x="609480" y="2362320"/>
                    <a:ext cx="7848720" cy="3332160"/>
                  </a:xfrm>
                  <a:prstGeom prst="rect">
                    <a:avLst/>
                  </a:prstGeom>
                  <a:ln w="0">
                    <a:noFill/>
                  </a:ln>
                </p:spPr>
              </p:pic>
            </p:oleObj>
          </a:graphicData>
        </a:graphic>
      </p:graphicFrame>
      <p:sp>
        <p:nvSpPr>
          <p:cNvPr id="3" name="PlaceHolder 2"/>
          <p:cNvSpPr>
            <a:spLocks noGrp="1"/>
          </p:cNvSpPr>
          <p:nvPr>
            <p:ph type="sldNum" idx="2"/>
          </p:nvPr>
        </p:nvSpPr>
        <p:spPr/>
        <p:txBody>
          <a:bodyPr/>
          <a:p>
            <a:fld id="{E0128E17-7F3F-458C-B2A3-EB17CAB1636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457200" y="2055960"/>
          <a:ext cx="8229600" cy="3736800"/>
        </p:xfrm>
        <a:graphic>
          <a:graphicData uri="http://schemas.openxmlformats.org/presentationml/2006/ole">
            <p:oleObj r:id="rId1" spid="">
              <p:embed/>
              <p:pic>
                <p:nvPicPr>
                  <p:cNvPr id="134"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6556F216-642A-4A2B-96CF-9E63BBE8EFB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19EE2283-F0CE-4576-9A22-ACBDACE587E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3AF0A98-FE64-4947-8612-2EA1689B45C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Gülcü</cp:lastModifiedBy>
  <dcterms:modified xsi:type="dcterms:W3CDTF">2007-03-12T07:29:22Z</dcterms:modified>
  <cp:revision>15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