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B267-D019-49CA-A9D2-FE00FDAF7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676F8F-3CBE-437C-B7BC-074E87F262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C96ABF-E01D-44BF-9416-FB69ACC43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BAF70A-45E8-453C-A841-258E3D7555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822B93-223A-4C0E-90FE-D33AC2FF7C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93C81-22A1-427D-A37B-189DFF6B1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63966-A948-41B1-B7FC-C8B6FBC71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F7D6A-961C-4303-BC01-705D59874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A2B25-1161-448E-B583-F39E7A637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2EA5A-83D2-4F31-951C-D5C210035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56705-7DC0-478C-A128-63F1BCE6D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C9CA6-C7BE-4304-A08D-C2FCC194E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FDA6DB-04F0-4477-BB83-4A93B9A4A6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E2703-E7D9-4E81-8EFD-D39E17792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7C3EA-C454-439E-B78F-626BB3E06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42A23-61AF-4A14-A3F3-BFF76DB1D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258261-7229-41AB-B865-76CCF8D6A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FB35B-F94D-4B34-949E-782F7D5558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A9EE66-5A21-4840-A493-4F74CBDF89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1684EB-ED1F-4A6E-BBE7-EAC33E726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D4664F-E8D1-4D07-8500-165697BC98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896B7A-55B9-4625-96C3-FA4B5BD01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496749-CA00-4C93-9ED3-440AF990B0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5AD2B9-1138-4501-BCB6-67721F2FD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4016FD-BF51-45BD-8DF0-815301C5C8F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2E62-4039-4AB9-8FFB-F903139092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10FF-B7DF-4378-BE9D-3FC27D2415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228600" y="1980720"/>
            <a:ext cx="86868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class="c.q.l.c.turbo.UserTurboFilt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User&gt;sebastien&lt;/Us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OnMatch&gt;ACCEPT&lt;/OnMatch&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MDCKey&gt;username&lt;/MDCKey&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g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6-11-29T07:49:35Z</dcterms:modified>
  <cp:revision>13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