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6A5C28-93F2-48C2-BDF4-D6A2DEFBC0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slf4j bridge (log4j-over-slf4j.jar), and the jakarta commons logging (JCL) to SLF4J  bridge (jcl104-over-slf4j.jar), users who currently log  through the log4j or JCL APIs can keep their existing log  statements (without change).  The bridge will redirect the log4j calls to slf4j which will in turn delegate to another logging system such as  logback or  java.util.logging (JUL).</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CL? Peace of cake! Just place slf4j-jcl.jar in you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class path. To bridge legacy log4j calls to SLF4J,  add log4j-over-slf4j.jar to your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log4j-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ABEB61E-CBB9-4EBF-A0E6-220B87B3ECB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FB0F670-215A-421C-B581-4CEDE1F67BC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CE4E15F-C1A5-4AA7-AAC6-9AD4853F73D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CB2A118-7503-4F4A-9B28-DD9E4FAC606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232AC41-CF47-4A03-A83B-E3F048833CC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0BC945-6BF5-4254-95F1-0CB8A09FD2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BCA837-30AE-458A-8262-A6E38A8624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9252EE-7F44-45FC-BCF8-E46828C3AE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B4AAD3-983B-4690-B968-30A3DA7FAF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D26F60-5ECB-473A-9C33-2205CEE358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CB1FC7-2732-499B-BCBE-6D06397C3A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57801DB-58A7-4203-911F-65EA0802F76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7D5FBE-9C06-4DAF-8229-017D358FAA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39925C-618A-4E12-BF4E-A79D9D5E65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6A6E14-9A88-4A38-9D31-CB339A98EA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46681D5-2361-4A8E-B978-65E4C4C6580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4ECAFBA-8651-4592-A130-A21B9E8D0FD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8CB8105-74A1-4435-BB10-FC745A4D70E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BCDA057-6988-4C91-AA52-271C096940B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8872800-5145-4129-B379-7C32397A532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5B73DC5-6CFE-4480-9534-BB54C65A476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A3BB6F7-499F-4D49-8796-2863CE3150C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CEF4C37-9803-46E1-96BB-05C6990A201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30DE9B2-4668-40CD-9075-8E63FDC0435C}"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4025EE-E303-44FA-AAA7-C7198A8F46E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3BA38E-657A-4584-B161-A8A058190AD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bugzilla.qos.ch/" TargetMode="External"/><Relationship Id="rId6" Type="http://schemas.openxmlformats.org/officeDocument/2006/relationships/hyperlink" Target="http://bugzilla.qos.ch/"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configuratio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3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configuration&g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1920" y="1447560"/>
            <a:ext cx="85345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configuratio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ActiveFileName&gt;access.log"&lt;/ActiveFileNam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ccess.</a:t>
            </a:r>
            <a:r>
              <a:rPr b="1" lang="en-US" sz="1800" spc="-1" strike="noStrike">
                <a:solidFill>
                  <a:srgbClr val="000000"/>
                </a:solidFill>
                <a:latin typeface="Courier New"/>
              </a:rPr>
              <a:t>%d</a:t>
            </a:r>
            <a:r>
              <a:rPr b="0" lang="en-US" sz="1800" spc="-1" strike="noStrike">
                <a:solidFill>
                  <a:srgbClr val="000000"/>
                </a:solidFill>
                <a:latin typeface="Courier New"/>
              </a:rPr>
              <a:t>.log.</a:t>
            </a:r>
            <a:r>
              <a:rPr b="1" lang="en-US" sz="1800" spc="-1" strike="noStrike">
                <a:solidFill>
                  <a:srgbClr val="000000"/>
                </a:solidFill>
                <a:latin typeface="Courier New"/>
              </a:rPr>
              <a:t>zip</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appender-ref ref="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configuration&g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stead of</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7200" y="1676160"/>
            <a:ext cx="8229600" cy="4724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a:t>
            </a:r>
            <a:r>
              <a:rPr b="0" lang="en-US" sz="3200" spc="-1" strike="noStrike" u="sng">
                <a:solidFill>
                  <a:srgbClr val="666699"/>
                </a:solidFill>
                <a:uFillTx/>
                <a:latin typeface="Arial"/>
                <a:hlinkClick r:id="rId5"/>
              </a:rPr>
              <a:t>bugzilla.qos.ch</a:t>
            </a:r>
            <a:r>
              <a:rPr b="0" lang="en-US" sz="3200" spc="-1" strike="noStrike" u="sng">
                <a:solidFill>
                  <a:srgbClr val="666699"/>
                </a:solidFill>
                <a:uFillTx/>
                <a:latin typeface="Arial"/>
                <a:hlinkClick r:id="rId6"/>
              </a:rPr>
              <a: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6"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28" name=""/>
          <p:cNvGraphicFramePr/>
          <p:nvPr/>
        </p:nvGraphicFramePr>
        <p:xfrm>
          <a:off x="838080" y="2209680"/>
          <a:ext cx="7925040" cy="3364200"/>
        </p:xfrm>
        <a:graphic>
          <a:graphicData uri="http://schemas.openxmlformats.org/presentationml/2006/ole">
            <p:oleObj r:id="rId1" spid="">
              <p:embed/>
              <p:pic>
                <p:nvPicPr>
                  <p:cNvPr id="129" name="" descr=""/>
                  <p:cNvPicPr/>
                  <p:nvPr/>
                </p:nvPicPr>
                <p:blipFill>
                  <a:blip r:embed="rId2"/>
                  <a:stretch/>
                </p:blipFill>
                <p:spPr>
                  <a:xfrm>
                    <a:off x="838080" y="2209680"/>
                    <a:ext cx="7925040" cy="3364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1" name=""/>
          <p:cNvGraphicFramePr/>
          <p:nvPr/>
        </p:nvGraphicFramePr>
        <p:xfrm>
          <a:off x="914400" y="1905120"/>
          <a:ext cx="6935760" cy="3981240"/>
        </p:xfrm>
        <a:graphic>
          <a:graphicData uri="http://schemas.openxmlformats.org/presentationml/2006/ole">
            <p:oleObj r:id="rId1" spid="">
              <p:embed/>
              <p:pic>
                <p:nvPicPr>
                  <p:cNvPr id="132" name="" descr=""/>
                  <p:cNvPicPr/>
                  <p:nvPr/>
                </p:nvPicPr>
                <p:blipFill>
                  <a:blip r:embed="rId2"/>
                  <a:stretch/>
                </p:blipFill>
                <p:spPr>
                  <a:xfrm>
                    <a:off x="914400" y="1905120"/>
                    <a:ext cx="6935760" cy="3981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4" name=""/>
          <p:cNvGraphicFramePr/>
          <p:nvPr/>
        </p:nvGraphicFramePr>
        <p:xfrm>
          <a:off x="457200" y="2176560"/>
          <a:ext cx="8229600" cy="3494160"/>
        </p:xfrm>
        <a:graphic>
          <a:graphicData uri="http://schemas.openxmlformats.org/presentationml/2006/ole">
            <p:oleObj r:id="rId1" spid="">
              <p:embed/>
              <p:pic>
                <p:nvPicPr>
                  <p:cNvPr id="135" name="" descr=""/>
                  <p:cNvPicPr/>
                  <p:nvPr/>
                </p:nvPicPr>
                <p:blipFill>
                  <a:blip r:embed="rId2"/>
                  <a:stretch/>
                </p:blipFill>
                <p:spPr>
                  <a:xfrm>
                    <a:off x="457200" y="2176560"/>
                    <a:ext cx="8229600" cy="3494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6-11-29T21:42:36Z</dcterms:modified>
  <cp:revision>135</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