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391F8-C1A0-4476-BE0C-808AD312CF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EA979E-DA05-4925-9EE5-47C1FE032BA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7EE773-2C8C-4194-AFBC-600DAE26D7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D0FE5E7-BE60-41CE-9787-6B579B41AFD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5CD155E-C366-4BA7-8C3C-44A02779E97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E3A33F8-23AF-461C-B464-4AFF835666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42B81A7-7B23-4F7D-A261-6049BD58B4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BEDB475-FADE-469F-879C-C7DE81DD8E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1355576-B220-441B-B61E-3C75A128C2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089EDD3-6969-4063-A085-CB75CA12D8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B2D98CB-8378-48D1-88E0-FC99BCE162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E6E16D-9636-4BA0-BBA1-B6ACD77CF4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CBF9534-0F8E-4317-90D4-F40AAE1D3A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605EA7-FEC5-497E-B622-B32A039513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2EE1DD-AFD7-4FB5-9705-4DF742CF8F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C4A237C-0BF7-475A-812D-F4835BF7CF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4948692-50EA-4DA7-9036-92BCB413544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E793A29-6C05-4EB7-BB1E-7E036B13EB3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B523AC-3EA7-485D-9D59-060ED50E11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9BBC56-FF36-48F7-9CFB-0668F2F8DF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901EBCC-8DC2-4C39-A8BC-3C9B80C237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97057F3-1F6C-48F8-A4EC-B8700CD639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B746D0-9A09-44A3-A230-D397781D5A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8A5FE2-18D1-401E-9342-59457DF050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9CF69C-10CF-4954-ABC8-3A78B7B2216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3259D-B719-4324-A275-E29A397745C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6DE21-1669-4021-B391-3CB58DAB0E0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93FE349-CE1F-4E7A-A14D-26E8DD4B310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C9AD72-EA05-4446-A0E2-5D1706C4A28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9E51CE-86E1-4391-8CA7-CA11EB1E36B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957E40-D7B9-40C4-ABF4-141B3DF0EDC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E52DD8-629B-4B4F-AA61-1B24F29D912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86E7D0-CCFA-45C1-A190-70DA9073248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5AF04C-11F5-4022-ACC2-CCAE20F5FB5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20F700-60BD-4AA2-939B-23A5213B247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5C0F18-239C-4D18-B012-B915C2414EF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640D83-CBCF-453F-8B62-2A1B20504A4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CD8E8A-3870-4B35-BC62-7358A354FB1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F2A231E-85D6-4084-B2B7-9C5172880DE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BFF54D-8194-4B3C-8C0F-B5D7F551FB5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3A4D35-A8A0-4CD8-9B0A-A28034FC509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55A693-24DF-4970-A949-7A1A84ECFA9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C0DEB5-34FF-4600-A425-9E979A39C9A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2"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370C4F-6893-4E10-AAFB-18C2B032595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4"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0968107-A987-450C-80E0-E93EA7A5FE4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Appender and RollingFileAppender allow for the same log file to be written to by instances located in different JVM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927C29-A59F-453B-A92E-7D3C0B388FA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73D4F8-67E3-48D3-8F8A-42260910DF8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0"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542485-91D1-4941-810C-589B73FF3889}"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4EF930B-273B-401B-81E4-EA5A288BF81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EBC4AC-94F8-49C3-BC99-026A4F082A9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A96861-9870-401C-A1F8-A589D2BFD70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163C97-08F0-4A37-ABD3-9FC1C80ECD1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604DEF-3F95-4A91-86B3-5F13F6D981B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104367-8701-46EB-BB81-91E65D29581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7614E8-99A2-4152-A129-9BC52B7F789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11T08:27:54Z</dcterms:modified>
  <cp:revision>174</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