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0436FA-43D3-4B77-B7F4-570AFCCD7C6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DCE2466-A532-4200-9F34-BE206ACD4A7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A7AE8DC-9A44-47EE-8D70-AE369307AF6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6A32E03-1BF1-4306-9DA1-B66E78B2CB9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CDC1972-2A1F-49D0-9AF9-68003D88003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81306A4-89FD-4216-BC79-2874E355F4F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C1BF232-F637-4B96-856F-D65407D0BDC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95E8018-ECE2-46E5-A07E-3FFEAC58ACF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DF8C57F-C06F-48F4-971F-B2693F682AF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9B0A29F-EEFB-4CDE-9064-B53A33CB039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B024579-D277-4A95-8C25-0C65EDEFFC7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5C23EB0-D7D0-406F-9217-2EB9DCE6E85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9C9DA6E-9147-4542-9EC7-0618340110B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714EBFE-20C7-4195-894E-C0761F0FA9B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D0B6B6F-E84A-494B-8F36-05D401F0260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AFA080B-6AD1-47F5-84E7-48107B99865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2B35013-5571-4D79-9E38-D6668DAD11B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71B8544-47E2-4F87-897F-200B7ED34F9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828521-7788-494E-98A3-56EED188EC8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3D29804-3A17-4D36-8F87-109B5EF5F45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B09D7A1-DBD1-4D78-8793-1F582D0FEBD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9D6A5AD-5658-4EA2-9F66-6EA106F6B6C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36B9DA6-AB31-42C1-B4BE-39F7C41402C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FB82648-EC89-46EE-AE79-CD077ACCFE9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0238B68-5467-474E-B8B2-DBF30FC4F6B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20784A-F4FA-4EE6-8380-4D8586C0BC4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86FD7C-666A-4951-BA93-54BC7187FC7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F395959-0AC2-4C7C-8128-A6F5FDB517E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351FA7-1F10-4CFE-B506-2A6ADCFC316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209934-40B2-4C98-A1B3-E96BBAC336D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38"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B59190-A12C-43B8-92E1-772EA3BE7E3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8F0712-E072-413E-BFAA-3DC518C1C59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6438C22-55A3-45CD-A507-060243DA3DE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E919F2-003C-42F2-A931-CCC288E3F46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DBC7F5-0519-48CE-BC5C-D36AF4CE0D3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D56F53-5908-487E-BE76-A500B8DE8CE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3742433-AA45-4477-AE9E-56EDADEF801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AF37CC-EDCD-4E45-B4A5-FE12AB207C0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32767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AE29830-C995-4885-B3C1-329252DE72C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853F1B-E90F-4A97-8938-0B02F92264E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822F59-BB4A-4E4F-822D-FB45EF75EE9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58"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F9B11CE-9F39-4DC8-B50A-9EECE21DD1B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0"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1DF21CB-F19E-4DD5-A0C9-E90E7857B8B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2" name="PlaceHolder 2"/>
          <p:cNvSpPr>
            <a:spLocks noGrp="1"/>
          </p:cNvSpPr>
          <p:nvPr>
            <p:ph/>
          </p:nvPr>
        </p:nvSpPr>
        <p:spPr>
          <a:xfrm>
            <a:off x="457200" y="1600200"/>
            <a:ext cx="8229600" cy="46483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 the backgroun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Appender and RollingFileAppender allow for the same log file to be written to by instances located in different JVM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 in outgoing email</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90F312-4A11-4DE1-9EE7-B0ABCFFCD2C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6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successor of log4j.</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B77755-8051-47B0-A6DD-64D85EC6E35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66"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A06940-8009-444E-87B2-A99EA9A9DAE0}"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5E25865-B23A-4EE2-936A-EA36E3BA009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F56094-6165-4AF6-94C6-D3AC59DBB52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46FBCC-BDBB-47B4-9A5B-36D7F08BEE8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1517D3-62E0-4BD7-8587-C7BD1BDC410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B5C738-F352-4132-AE90-6B84220F532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15014F-63B7-4FB3-B3D9-87E38B18583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8892BB-835F-4132-BFC3-1F1D49904D7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4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8-12-27T13:21:20Z</dcterms:modified>
  <cp:revision>172</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