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AA5810-FD05-4392-89F4-41C355B2B7B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7499C5D-1757-4C42-8EDC-815DD217E87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0396DCC-9005-4592-BFE2-1CA0613D234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4179BA2-FA2F-47F5-88BA-C132A9CC12E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A37F333-32DB-4C9C-A954-A9B884C1F43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EFB7DA9-5653-4A6F-AC60-8B1A3230243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F1DA39F-C46C-425B-94BB-49494A71DE7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2454334-3BCA-4A03-AAF9-1B736954CA0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D14814D-F92F-4CFB-BDA9-C99648805B9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C786D64-35E3-466D-9580-27C68410B41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8CA9BF4-26E0-4409-B2FA-866CD737967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61E42BE-8217-4D58-A586-1AE7D30DEAB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86BB403-36D0-4920-9B74-20A161F16CA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4AAEDBF-B4A0-4378-8F66-C1CE2FC5A5E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049E004-5451-4BF8-9B84-723C4011217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6511EB0-0F79-491E-893F-0C533F8A54E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6B33D59-115A-4D1B-BDBD-9E61943EE3A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09975AC-9F9F-419C-818B-122F70073A7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1741C8-41F8-49E7-BC47-87C05075B4D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98F3185-B60C-4776-8F67-CBF6A1662D0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F886C49-FF33-4D10-B56C-80E5E4F294B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716CBC0-5AD8-47D0-A9CF-F7525440274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623F4BD-5A81-4485-8DB4-B04DAEE971A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3EEBB24-7F3F-4E67-BE1F-8E233E65536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FDBB41E-F3DE-46B1-8F28-0F056FFAE33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BAE1EA-BBE5-4773-A702-63DB14FEE3E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0B2A05-A303-4DC1-ACE1-D02802A73F8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0DDD71C-CA68-4CA8-95C3-18B36FC20AB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4EA44B-6ED1-43F1-929F-9B12A58878F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E18194-450F-47B5-BAD5-7781644AADF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38"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65F2ED-9D22-40E2-885C-A0F17B2493C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303303-DF97-45E3-B45E-D8DAA046C16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D098CD-17CE-479A-BC0A-DB304029704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5C74C1-C9C1-4997-9845-2E9F00EFB61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8A2823-E8BA-4A27-B4EA-D01748E127D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115F84-1AFF-4EB8-88C8-8380871940A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8A1707C-66D6-4346-A950-6A59DE799F5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81D148-D4F5-4C95-8EA8-E1B45049C58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32767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725A1E8-C623-4E66-A44D-E364BDD4F41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607F8A-BFE5-4F7C-868A-E85A227398B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573F1D-6D6A-4456-9878-E299B0181CE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58"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B9BC8F6-5F30-4358-A611-AFF0A1E0C42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0"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AB3FC9A-49E6-4F53-B357-E7DAA3D4BF4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 the background</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 in outgoing emai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3F7D0F-629E-4D98-926B-52CEB8C37F0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6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successor of log4j.</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A2EE3D-51A9-4A82-896C-225C7DD0A98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66"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C8FACA-0F34-473F-BBCA-1E98FDF5672F}"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4B99082-2D54-4A78-89C8-62615412FE0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F01ED9-8BA8-4EFC-BBF9-03AC18B449D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319955-90BE-4FCD-84BD-438076AF941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B5E2B3-C1AF-45A7-962C-A2037AB4196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55FFEB-7674-48A2-9A16-5F8F15C40D7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04B8C3-6B17-4ED6-B634-8E3AB2AA4BC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29C884-A958-4A98-B7EA-CC3B5FDCCDE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9-17T16:46:58Z</dcterms:modified>
  <cp:revision>168</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