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E078-34EA-4CE1-B3A7-8ED64C33F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0C2C5B-9E91-40CB-ABD4-7896321EC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A9A676-6324-4E32-BF08-650692509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42CF3D-5C6D-401B-9560-F8781C7441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F0A873-1AD4-4F34-8076-4ACA8E7FC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E8B01-AF55-46AC-A4CA-A9F1EF480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A0C99-3D12-4F03-A9C9-F07C6D7A1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E570E-3044-4CC6-9ACA-7D58DD3E5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DEF81-DCD5-41A7-8906-E95A2DE16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660E4-3A1A-42DF-A307-5747C03A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4B32F-452A-4AD9-BD90-825427245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87DC3-71CB-44EE-BA6B-2959FD9CF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5F8CD-529C-41AF-B89A-B6A9A7916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393DC-58D5-4805-B1D0-6BA2552C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5622-9F16-413B-8FB8-DE6FEAE60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5C3CB-3CD5-4ED1-9DED-122DC83AA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00B43-DCED-42F4-ABED-1D765948D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2C4FA-588E-44CF-8CAF-42DDEB47C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FFA1B7-4092-4389-BE98-6D1E91205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4F2D3-3C06-4B8E-B1C3-1A72D782C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66A24-A171-4752-B8D3-37909F4B7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DF08F2-5897-469D-BD1A-B2509997B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270ED-75A7-4369-8B25-E11E3A410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8BC46-0BED-47C5-BFD5-27642AB2A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2B807-FEBC-47C2-BA4E-D4A0A6791B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A9F2-D53F-4827-85B8-F9AE222E51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A0D8-E258-462B-AD0A-3BCBC08EE9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0"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2"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4"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0"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4"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8" name="PlaceHolder 2"/>
          <p:cNvSpPr>
            <a:spLocks noGrp="1"/>
          </p:cNvSpPr>
          <p:nvPr>
            <p:ph/>
          </p:nvPr>
        </p:nvSpPr>
        <p:spPr>
          <a:xfrm>
            <a:off x="151920" y="129528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0"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8"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8T22:16:54Z</dcterms:modified>
  <cp:revision>12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