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1827A-F4BE-4EEF-9508-F190BC0D5E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B834B9C-2FD8-4144-A7DF-76B54E5FBD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CD1BF16-F607-479F-BCB0-879E9B6ED5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1DD73CA-D32A-44F4-BE51-E3896D49BD6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AAA93E2-2A9C-4040-A364-B1FA9F5E514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FAFF55-AF2F-4F86-BD35-85135462BE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03B74D-C467-4F5B-9AF2-A5E0CBFDB2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5F6ED5-2DE6-40B7-B0A7-1985397622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CEFDC4-A06E-43E9-A4AA-F6A5341A5A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26F3E2-0F54-4209-B66F-9DADFE15A9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785487-193B-465B-A5B1-AED8136A93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769CFE-CC21-4817-8047-9C4390113B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13D53A4-0744-432E-AEA0-F9F72F934F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E5C6DA-F2A4-4A67-9D96-2A39F1659D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AEF0C3-DF55-4239-9E94-56EE883052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BD307D-313C-48A2-B432-A9F3D1ED8E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CF71D3-E779-467A-AAA4-CF93BD7DC3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81DD86-25B4-4504-A34D-52A7820E88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F456213-3D3A-4679-B329-250740B713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CAF92D0-084A-48EB-BF44-FA228D8A66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47F0395-150D-4726-9289-FD9E78085A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CD43DCA-3D47-4E24-8499-AD8A1D5BE4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54CC88-28AA-4A53-A1AF-5A7AFEF9D2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902767-8CBD-4DEB-A97D-5DB40E2F0C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FF04AD-8F52-46A9-AC80-3DD70A91C93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C5FDB-87A9-4723-A5DE-FF237056579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19E9B-41AE-4628-86FC-496218A5768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3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1920" y="1447560"/>
            <a:ext cx="85345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ctiveFileName&gt;access.log"&lt;/ActiveFileNam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ccess.</a:t>
            </a:r>
            <a:r>
              <a:rPr b="1" lang="en-US" sz="1800" spc="-1" strike="noStrike">
                <a:solidFill>
                  <a:srgbClr val="000000"/>
                </a:solidFill>
                <a:latin typeface="Courier New"/>
              </a:rPr>
              <a:t>%d</a:t>
            </a:r>
            <a:r>
              <a:rPr b="0" lang="en-US" sz="1800" spc="-1" strike="noStrike">
                <a:solidFill>
                  <a:srgbClr val="000000"/>
                </a:solidFill>
                <a:latin typeface="Courier New"/>
              </a:rPr>
              <a:t>.log.</a:t>
            </a:r>
            <a:r>
              <a:rPr b="1" lang="en-US" sz="1800" spc="-1" strike="noStrike">
                <a:solidFill>
                  <a:srgbClr val="000000"/>
                </a:solidFill>
                <a:latin typeface="Courier New"/>
              </a:rPr>
              <a:t>zip</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ref ref="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6"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8" name=""/>
          <p:cNvGraphicFramePr/>
          <p:nvPr/>
        </p:nvGraphicFramePr>
        <p:xfrm>
          <a:off x="838080" y="2209680"/>
          <a:ext cx="7925040" cy="3364200"/>
        </p:xfrm>
        <a:graphic>
          <a:graphicData uri="http://schemas.openxmlformats.org/presentationml/2006/ole">
            <p:oleObj r:id="rId1" spid="">
              <p:embed/>
              <p:pic>
                <p:nvPicPr>
                  <p:cNvPr id="129"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1" name=""/>
          <p:cNvGraphicFramePr/>
          <p:nvPr/>
        </p:nvGraphicFramePr>
        <p:xfrm>
          <a:off x="914400" y="1905120"/>
          <a:ext cx="6935760" cy="3981240"/>
        </p:xfrm>
        <a:graphic>
          <a:graphicData uri="http://schemas.openxmlformats.org/presentationml/2006/ole">
            <p:oleObj r:id="rId1" spid="">
              <p:embed/>
              <p:pic>
                <p:nvPicPr>
                  <p:cNvPr id="132"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4" name=""/>
          <p:cNvGraphicFramePr/>
          <p:nvPr/>
        </p:nvGraphicFramePr>
        <p:xfrm>
          <a:off x="457200" y="2176560"/>
          <a:ext cx="8229600" cy="3494160"/>
        </p:xfrm>
        <a:graphic>
          <a:graphicData uri="http://schemas.openxmlformats.org/presentationml/2006/ole">
            <p:oleObj r:id="rId1" spid="">
              <p:embed/>
              <p:pic>
                <p:nvPicPr>
                  <p:cNvPr id="135" name="" descr=""/>
                  <p:cNvPicPr/>
                  <p:nvPr/>
                </p:nvPicPr>
                <p:blipFill>
                  <a:blip r:embed="rId2"/>
                  <a:stretch/>
                </p:blipFill>
                <p:spPr>
                  <a:xfrm>
                    <a:off x="457200" y="2176560"/>
                    <a:ext cx="8229600" cy="349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1-29T21:42:36Z</dcterms:modified>
  <cp:revision>13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