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1D8BAA-5473-433E-A793-3E1C692B12A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B1011C5-F071-40C3-B243-3B2185E0942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13DC7EA-010B-41A1-B6FB-70555633A0B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A55BAD5-BD86-436F-88B2-45449131DE9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17DAC40-F14D-419A-BB49-B627BFF4173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F55AFF2-5ADB-4E6C-B7A9-CC601E70117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4A1AEA-AA93-463E-973A-3C66E59070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14CA25-8B38-40B1-802D-46CF535162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DCAFF6-4B26-4106-83E7-4D5AC6040F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283E5B-7B45-4F74-B813-293DE550C2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768D0E-4A6E-48B1-ADB9-3C27CA352A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68337A-1D00-4E8F-A751-427D1C7174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EAB1AF4-583E-4EA5-8522-387CA72F8E8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AA7311-48A5-4416-BD00-BB63F10B9F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08B06D-A946-4350-B0DF-FAD3B73F1E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0870E5-8AA2-46AA-8D7B-78F59A9D7A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14072C1-01CF-4B03-B24C-EF32A2FABF7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649690D-F642-4EDF-AFD8-83D5D8C4C51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27D1F0F-3B6E-40A7-9CC9-40E41E06F3F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FB9A16B-BFD9-4C21-9B3B-86712998807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8BD3C74-F040-4F7F-B439-A38DAE61B47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DF4D96A-F480-42F6-9EBB-0ADC491E533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154DCFA-C548-4897-86D0-80113ED8393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0D5D859-F5EE-4553-AE4C-9020AC812E5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72FB282-4E5C-43AF-881B-342AE6F1AFB0}"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A86526-DB5F-41B2-B32E-C098D2167F7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A6F3EB-AA0C-4C65-98CC-85BD38B8119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irc.freenode.net/#logback."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F4D1AE08-5D06-40EA-BDE9-930FA181EED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284B612-75CB-4C8B-8747-662336F5A92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F0C9379C-D0C7-4E05-8DA6-7D7FE0D7414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05C93FC4-6A22-41A6-AAF6-66454964A52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79FB765-6550-4414-B829-FF786BA2429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B1A1946-205A-494A-894D-C5E75524555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4529AA4-D50C-4ACD-B228-295857A6619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3B94587-B37F-4121-9AA5-2BDAEDD6BE5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4D461A1-714D-48F8-AB66-B760C201B0B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E08422F-5DF2-47E5-AE87-1A1D381F25C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C5F5411D-8B99-4E67-B0B2-1FD943CE4D7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A825EC4C-9DA6-499F-BBE8-E63AA4EFF7E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FB9EB987-0F2E-4839-995D-7BE7694C658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41173C7E-A871-4025-ABD8-4923A27529B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750F37C-CA62-4407-8611-F217C803EFB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B643DA1-654D-456B-B8CC-D0785399D95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5862D2E-DAB3-4AAA-A30B-D866A191D7B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E003919-A672-4749-926A-ECAAB4D9C44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bugzill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a:t>
            </a:r>
            <a:r>
              <a:rPr b="0" lang="en-US" sz="3200" spc="-1" strike="noStrike" u="sng">
                <a:solidFill>
                  <a:srgbClr val="666699"/>
                </a:solidFill>
                <a:uFillTx/>
                <a:latin typeface="Arial"/>
                <a:hlinkClick r:id="rId5"/>
              </a:rPr>
              <a:t>irc.freenode.net#logback</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E2C8286-62C9-431B-BA96-C19010768ED7}"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E19F328C-9833-4A12-85B3-B720FB58A74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493C639-EDF1-4C6D-A1CD-50B6F944079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8"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7845498-577D-4CE0-A990-F3C51D3B27C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30" name=""/>
          <p:cNvGraphicFramePr/>
          <p:nvPr/>
        </p:nvGraphicFramePr>
        <p:xfrm>
          <a:off x="609480" y="2362320"/>
          <a:ext cx="7848720" cy="3332160"/>
        </p:xfrm>
        <a:graphic>
          <a:graphicData uri="http://schemas.openxmlformats.org/presentationml/2006/ole">
            <p:oleObj r:id="rId1" spid="">
              <p:embed/>
              <p:pic>
                <p:nvPicPr>
                  <p:cNvPr id="131" name="" descr=""/>
                  <p:cNvPicPr/>
                  <p:nvPr/>
                </p:nvPicPr>
                <p:blipFill>
                  <a:blip r:embed="rId2"/>
                  <a:stretch/>
                </p:blipFill>
                <p:spPr>
                  <a:xfrm>
                    <a:off x="609480" y="2362320"/>
                    <a:ext cx="7848720" cy="3332160"/>
                  </a:xfrm>
                  <a:prstGeom prst="rect">
                    <a:avLst/>
                  </a:prstGeom>
                  <a:ln w="0">
                    <a:noFill/>
                  </a:ln>
                </p:spPr>
              </p:pic>
            </p:oleObj>
          </a:graphicData>
        </a:graphic>
      </p:graphicFrame>
      <p:sp>
        <p:nvSpPr>
          <p:cNvPr id="3" name="PlaceHolder 2"/>
          <p:cNvSpPr>
            <a:spLocks noGrp="1"/>
          </p:cNvSpPr>
          <p:nvPr>
            <p:ph type="sldNum" idx="2"/>
          </p:nvPr>
        </p:nvSpPr>
        <p:spPr/>
        <p:txBody>
          <a:bodyPr/>
          <a:p>
            <a:fld id="{6ABCC392-D735-4286-B982-3235D81AAC8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3" name=""/>
          <p:cNvGraphicFramePr/>
          <p:nvPr/>
        </p:nvGraphicFramePr>
        <p:xfrm>
          <a:off x="457200" y="2055960"/>
          <a:ext cx="8229600" cy="3736800"/>
        </p:xfrm>
        <a:graphic>
          <a:graphicData uri="http://schemas.openxmlformats.org/presentationml/2006/ole">
            <p:oleObj r:id="rId1" spid="">
              <p:embed/>
              <p:pic>
                <p:nvPicPr>
                  <p:cNvPr id="134"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01032E52-FC64-44D2-AA05-E38793FA573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6" name=""/>
          <p:cNvGraphicFramePr/>
          <p:nvPr/>
        </p:nvGraphicFramePr>
        <p:xfrm>
          <a:off x="457200" y="2176560"/>
          <a:ext cx="8229600" cy="3494160"/>
        </p:xfrm>
        <a:graphic>
          <a:graphicData uri="http://schemas.openxmlformats.org/presentationml/2006/ole">
            <p:oleObj r:id="rId1" spid="">
              <p:embed/>
              <p:pic>
                <p:nvPicPr>
                  <p:cNvPr id="137"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D9D54385-7DB2-4A10-B5DE-3AA5E8E9645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D4F9817E-906C-4105-92B8-394CBC66F4F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Gülcü</cp:lastModifiedBy>
  <dcterms:modified xsi:type="dcterms:W3CDTF">2007-03-12T07:29:22Z</dcterms:modified>
  <cp:revision>152</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