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png" ContentType="image/png"/>
  <Override PartName="/ppt/media/image10.wmf" ContentType="image/x-wmf"/>
  <Override PartName="/ppt/media/image7.png" ContentType="image/png"/>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F71B22-19C4-4A5A-93B9-2503146582F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0B477D18-353B-4179-8F55-611625F1B10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BED0CB4-A072-4E4D-8937-C0E48954779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E52A723A-EF50-40EE-8361-F79C9BF78E8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6CED4F73-AFCC-42B9-8D32-7618CC33DB0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BD83424-9E3E-44DE-97F3-BBFE3B0902A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20CD87-6ADA-442D-9851-BA08926CB6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8A6BD6-A101-44A6-8E32-48796B2557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C3B428-587A-4776-8755-83418B1F05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5E4CB6-6112-4DDF-8EA8-38DC854DAC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6863DC-7889-4F2A-B0F3-2418FC9BC9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4EE8CA-44DC-40CF-9B01-C33BE1566C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ABD0E2C-E343-4790-A071-CED19AFB4CF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2F81BE-F8DE-4FAB-947E-F3E6EE45A7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B14D6B-1067-44FF-AD4F-E93F954992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D5F65C-9854-4E8D-9541-7706EC7C53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4891A6A-5443-4BF3-8D8E-BCF5CBDBC4D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A11DF73-9BC6-47BD-A83B-4F106E7C0CC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9F79820-74AE-47C2-9B17-AED1C838559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AB5EB73-D8B0-4E0F-A8FF-73D64985D2A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947E9CE-40BD-4B74-8DD3-4E406D8C8F6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9E1D946-EDFF-4ED4-A726-88E23BAEF05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800AA1F-8987-427D-8455-74593DAF917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B706D18-C315-4E70-94C3-9D936B6DEDC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550B756-0AB6-456C-B8B1-98CA11934DA8}"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14B749-4A78-4E1F-B3F8-3B2B4FE0DE7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7272B1-D93B-4D23-A9D1-7B0C697A074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hyperlink" Target="http://jira.qos.ch/" TargetMode="External"/><Relationship Id="rId6" Type="http://schemas.openxmlformats.org/officeDocument/2006/relationships/hyperlink" Target="http://jira.qos.ch/" TargetMode="External"/><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2C045E9D-047B-42C9-AA31-4ACD9103E81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40" name=""/>
          <p:cNvGraphicFramePr/>
          <p:nvPr/>
        </p:nvGraphicFramePr>
        <p:xfrm>
          <a:off x="457200" y="2176560"/>
          <a:ext cx="8229600" cy="3494160"/>
        </p:xfrm>
        <a:graphic>
          <a:graphicData uri="http://schemas.openxmlformats.org/presentationml/2006/ole">
            <p:oleObj r:id="rId1" spid="">
              <p:embed/>
              <p:pic>
                <p:nvPicPr>
                  <p:cNvPr id="141"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2D9B171E-6B57-4C1B-B581-45348E37D84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43"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AF8F7EEC-5DD6-4F10-B3FC-FAFF382D969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5"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3879CFB-C072-4BBC-A532-DDED2031289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7"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0C87F3A9-72E0-424E-BF16-79E2FBF92D8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9"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03D2B45E-A468-47F8-B534-41D9CB014FC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5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2E5D0A5-9EE7-4F1A-8529-1A3F24369A3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3C2B639-BC60-4C15-B091-0E073B60C36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5"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02B902A-5E29-4A46-8912-85FD085F061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170283A-1A3F-450D-991D-5F862581376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9"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E06AF08-C4A9-4AAD-847F-11AC98F6F54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D25AE8EB-BF3C-499A-86A8-84450F960A8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61"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4F15557-E262-44FA-97B1-6D6C582A8B4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63"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535EEB5A-934C-48CE-8E11-EDBFBD11B98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5"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50A742B6-9639-452B-8B10-05829655AD5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7"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FFD4B629-A2C1-45FA-B74C-501F462A444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48EC145-3865-4229-B7DF-5CAA9D8B63F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3E25373-8438-4B6B-88F4-E1BFF3ABC19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0C6ECA4-13CD-48BB-A8BC-0922F1F8DAD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7D1AC19-5B90-4838-AC42-D3B91E459D1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7"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a:t>
            </a:r>
            <a:r>
              <a:rPr b="0" lang="en-US" sz="3200" spc="-1" strike="noStrike" u="sng">
                <a:solidFill>
                  <a:srgbClr val="666699"/>
                </a:solidFill>
                <a:uFillTx/>
                <a:latin typeface="Arial"/>
                <a:hlinkClick r:id="rId5"/>
              </a:rPr>
              <a:t>jira.qos.ch</a:t>
            </a:r>
            <a:r>
              <a:rPr b="0" lang="en-US" sz="3200" spc="-1" strike="noStrike" u="sng">
                <a:solidFill>
                  <a:srgbClr val="666699"/>
                </a:solidFill>
                <a:uFillTx/>
                <a:latin typeface="Arial"/>
                <a:hlinkClick r:id="rId6"/>
              </a:rPr>
              <a: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1B29DE1-048C-401B-A6A4-8BAF190C5977}" type="slidenum">
              <a:t>28</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DFBE4194-217D-4AA7-8514-42F6E4A48DA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792F367-97B3-4EE9-BBC3-8F6F2B70492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LF4J in one slide</a:t>
            </a:r>
            <a:endParaRPr b="0" lang="en-US" sz="4400" spc="-1" strike="noStrike">
              <a:solidFill>
                <a:srgbClr val="000000"/>
              </a:solidFill>
              <a:latin typeface="Arial"/>
            </a:endParaRPr>
          </a:p>
        </p:txBody>
      </p:sp>
      <p:pic>
        <p:nvPicPr>
          <p:cNvPr id="128" name="" descr=""/>
          <p:cNvPicPr/>
          <p:nvPr/>
        </p:nvPicPr>
        <p:blipFill>
          <a:blip r:embed="rId1"/>
          <a:stretch/>
        </p:blipFill>
        <p:spPr>
          <a:xfrm>
            <a:off x="3276720" y="1066680"/>
            <a:ext cx="4998960" cy="5334120"/>
          </a:xfrm>
          <a:prstGeom prst="rect">
            <a:avLst/>
          </a:prstGeom>
          <a:ln w="0">
            <a:noFill/>
          </a:ln>
        </p:spPr>
      </p:pic>
      <p:sp>
        <p:nvSpPr>
          <p:cNvPr id="3" name="PlaceHolder 2"/>
          <p:cNvSpPr>
            <a:spLocks noGrp="1"/>
          </p:cNvSpPr>
          <p:nvPr>
            <p:ph type="sldNum" idx="2"/>
          </p:nvPr>
        </p:nvSpPr>
        <p:spPr/>
        <p:txBody>
          <a:bodyPr/>
          <a:p>
            <a:fld id="{A9C3A3D4-3C01-4930-B86C-FCA6A923D27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30"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jul, log4j and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6EB4E67-1CD3-4278-B3AA-217E9AA7E1B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grate all jul, log4j and JCL calls (without changing a single line of code)</a:t>
            </a:r>
            <a:endParaRPr b="0" lang="en-US" sz="3200" spc="-1" strike="noStrike">
              <a:solidFill>
                <a:srgbClr val="000000"/>
              </a:solidFill>
              <a:latin typeface="Arial"/>
            </a:endParaRPr>
          </a:p>
        </p:txBody>
      </p:sp>
      <p:pic>
        <p:nvPicPr>
          <p:cNvPr id="132" name="" descr=""/>
          <p:cNvPicPr/>
          <p:nvPr/>
        </p:nvPicPr>
        <p:blipFill>
          <a:blip r:embed="rId1"/>
          <a:stretch/>
        </p:blipFill>
        <p:spPr>
          <a:xfrm>
            <a:off x="609480" y="1905120"/>
            <a:ext cx="7543800" cy="4359240"/>
          </a:xfrm>
          <a:prstGeom prst="rect">
            <a:avLst/>
          </a:prstGeom>
          <a:ln w="0">
            <a:noFill/>
          </a:ln>
        </p:spPr>
      </p:pic>
      <p:sp>
        <p:nvSpPr>
          <p:cNvPr id="3" name="PlaceHolder 2"/>
          <p:cNvSpPr>
            <a:spLocks noGrp="1"/>
          </p:cNvSpPr>
          <p:nvPr>
            <p:ph type="sldNum" idx="2"/>
          </p:nvPr>
        </p:nvSpPr>
        <p:spPr/>
        <p:txBody>
          <a:bodyPr/>
          <a:p>
            <a:fld id="{2CEF005B-AC7F-499D-B6FB-F1DACEFBE50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28600" y="533520"/>
            <a:ext cx="769608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 better, faster, smaller.</a:t>
            </a:r>
            <a:endParaRPr b="0" lang="en-US" sz="4000" spc="-1" strike="noStrike">
              <a:solidFill>
                <a:srgbClr val="000000"/>
              </a:solidFill>
              <a:latin typeface="Arial"/>
            </a:endParaRPr>
          </a:p>
        </p:txBody>
      </p:sp>
      <p:graphicFrame>
        <p:nvGraphicFramePr>
          <p:cNvPr id="134" name=""/>
          <p:cNvGraphicFramePr/>
          <p:nvPr/>
        </p:nvGraphicFramePr>
        <p:xfrm>
          <a:off x="380880" y="1905120"/>
          <a:ext cx="8293320" cy="3519360"/>
        </p:xfrm>
        <a:graphic>
          <a:graphicData uri="http://schemas.openxmlformats.org/presentationml/2006/ole">
            <p:oleObj r:id="rId1" spid="">
              <p:embed/>
              <p:pic>
                <p:nvPicPr>
                  <p:cNvPr id="135" name="" descr=""/>
                  <p:cNvPicPr/>
                  <p:nvPr/>
                </p:nvPicPr>
                <p:blipFill>
                  <a:blip r:embed="rId2"/>
                  <a:stretch/>
                </p:blipFill>
                <p:spPr>
                  <a:xfrm>
                    <a:off x="380880" y="1905120"/>
                    <a:ext cx="8293320" cy="3519360"/>
                  </a:xfrm>
                  <a:prstGeom prst="rect">
                    <a:avLst/>
                  </a:prstGeom>
                  <a:ln w="0">
                    <a:noFill/>
                  </a:ln>
                </p:spPr>
              </p:pic>
            </p:oleObj>
          </a:graphicData>
        </a:graphic>
      </p:graphicFrame>
      <p:sp>
        <p:nvSpPr>
          <p:cNvPr id="3" name="PlaceHolder 2"/>
          <p:cNvSpPr>
            <a:spLocks noGrp="1"/>
          </p:cNvSpPr>
          <p:nvPr>
            <p:ph type="sldNum" idx="2"/>
          </p:nvPr>
        </p:nvSpPr>
        <p:spPr/>
        <p:txBody>
          <a:bodyPr/>
          <a:p>
            <a:fld id="{882757BC-CCB8-4AA4-AF5F-C5A127BA71E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7" name=""/>
          <p:cNvGraphicFramePr/>
          <p:nvPr/>
        </p:nvGraphicFramePr>
        <p:xfrm>
          <a:off x="457200" y="2055960"/>
          <a:ext cx="8229600" cy="3736800"/>
        </p:xfrm>
        <a:graphic>
          <a:graphicData uri="http://schemas.openxmlformats.org/presentationml/2006/ole">
            <p:oleObj r:id="rId1" spid="">
              <p:embed/>
              <p:pic>
                <p:nvPicPr>
                  <p:cNvPr id="138"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760B87CC-1DC3-40A1-A844-7B2EB6AC048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8-06-03T15:45:49Z</dcterms:modified>
  <cp:revision>163</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