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A0788B-62E7-4CE3-82EB-6BA5A7798A8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s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improved filtering and evaluation capability.</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e are working on an log4j-slf4j bridge, similar to the existing jakarta commons logging</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CL) to SLF4J  bridge. Users who currently log  through the log4j API can keep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ir existing log  statements (without change).  The bridge will redirect the log4j calls to</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lf4j which will in turn delegate to another   logging  system   such   as  logback   or   log4j  or   eve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ava.util.logging (JUL).</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r>
              <a:rPr b="0" lang="en-US" sz="800" spc="-1" strike="noStrike">
                <a:solidFill>
                  <a:srgbClr val="000000"/>
                </a:solidFill>
                <a:latin typeface="Arial"/>
              </a:rPr>
              <a:t>Graphically, this can be represented a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r>
              <a:rPr b="0" lang="en-US" sz="800" spc="-1" strike="noStrike">
                <a:solidFill>
                  <a:srgbClr val="000000"/>
                </a:solidFill>
                <a:latin typeface="Arial"/>
              </a:rPr>
              <a:t>legacy log4j calls &g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LF4J calls         &gt;---+---&gt; SLF4J --&gt; logback</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egacy JCL   calls &g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br>
              <a:rPr sz="800"/>
            </a:br>
            <a:br>
              <a:rPr sz="800"/>
            </a:br>
            <a:r>
              <a:rPr b="0" lang="en-US" sz="800" spc="-1" strike="noStrike">
                <a:solidFill>
                  <a:srgbClr val="000000"/>
                </a:solidFill>
                <a:latin typeface="Arial"/>
              </a:rPr>
              <a:t>Now, if you don't like logback and prefer JUL, you can do the following:</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r>
              <a:rPr b="0" lang="en-US" sz="800" spc="-1" strike="noStrike">
                <a:solidFill>
                  <a:srgbClr val="000000"/>
                </a:solidFill>
                <a:latin typeface="Arial"/>
              </a:rPr>
              <a:t>legacy log4j calls &g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LF4J calls        &gt;---+---&gt; SLF4J --+-&gt; JUL</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egacy JCL   calls &g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UL  calls         &g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br>
              <a:rPr sz="800"/>
            </a:br>
            <a:r>
              <a:rPr b="0" lang="en-US" sz="800" spc="-1" strike="noStrike">
                <a:solidFill>
                  <a:srgbClr val="000000"/>
                </a:solidFill>
                <a:latin typeface="Arial"/>
              </a:rPr>
              <a:t>If you would prefer to stick with log4j, you ca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r>
              <a:rPr b="0" lang="en-US" sz="800" spc="-1" strike="noStrike">
                <a:solidFill>
                  <a:srgbClr val="000000"/>
                </a:solidFill>
                <a:latin typeface="Arial"/>
              </a:rPr>
              <a:t>SLF4J calls        &gt;---+---&gt; SLF4J --+-&gt; log4j</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egacy JCL   calls &g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og4j calls &g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r>
              <a:rPr b="0" lang="en-US" sz="800" spc="-1" strike="noStrike">
                <a:solidFill>
                  <a:srgbClr val="000000"/>
                </a:solidFill>
                <a:latin typeface="Arial"/>
              </a:rPr>
              <a:t>Note that  in the  above diagrams, there  are no direct  logback call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ecause normally  one goes  through SLF4J to  log with logback.  It i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ctually  a little  less convenient  to log  directly  through logback</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stead   of   (indirectly)   with   SLF4J.  For   example,   logback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ocumentation  always uses SLF4J.  (There are  no examples  in logback</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ocs that use logback directl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r>
              <a:rPr b="0" lang="en-US" sz="800" spc="-1" strike="noStrike">
                <a:solidFill>
                  <a:srgbClr val="000000"/>
                </a:solidFill>
                <a:latin typeface="Arial"/>
              </a:rPr>
              <a:t>In other words, SLF4J acts as a universal logging API bridging betwee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various logging systems. Logback  is designed to support SLF4J API</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rom the start.</a:t>
            </a:r>
            <a:endParaRPr b="0" lang="en-US" sz="8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CL? Peace of cake! Just place slf4j-jcl.jar in you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class path. To bridge legacy log4j calls to SLF4J,  add log4j-over-slf4j.jar to your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log4j-over-slf4j.jar in your app’s class path.</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013AF68-B0DF-4B2B-B63F-B1518AC7C27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4380B91-B421-4154-99C1-AE95C590D9C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F2C937E-F789-43E1-9F43-105FBADD6CE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34D8921-26CF-41BC-AAB4-A08B65DE733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4C68645-179D-40D0-B61F-8F2DFEDFA66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E65057-0FCC-4EE2-9CDE-EE15A2F0EF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E630D1-C644-4C5A-BCC9-2E3180A430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764654-1A39-4E7C-A4C8-40B2DF19FE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B1BD00-C50C-4934-A8E1-6E9138D695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8DC496-4C35-4685-B1A7-2A82F9EF2D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31B3D1-63DA-4F4F-95D6-B0CBE9C379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D25BF25-4927-4FFF-83CE-976D80919BC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04FE9D-6DB6-4C31-A6F3-ADD3529913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8D723C-648A-4942-9C37-10E32634E7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8E84F1-99A0-4241-9358-0F5A8D3A58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7C9A079-6FAF-4423-8052-DD53E06AD37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2C2868B-9E76-4240-9F42-4129B8D6CCC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1784A27-4FCD-40A1-BC67-7162E19B751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1E17C72-C3CF-44E9-95CE-8809EFFF131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6F8D031-C7AE-488E-8D82-0D198326B8D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CBDF831-022D-4AFA-8FE5-BDBC9AD9245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8AACF10-9655-47E2-B916-FE1B06621DF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22D2BB4-564A-4403-84C0-A58223D5F99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8C0633B-4A7A-4343-9FB6-FAEC11D89CD2}"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12269A-9957-46B7-9B46-BD98E91E4AC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other example:</a:t>
            </a:r>
            <a:endParaRPr b="0" lang="en-US" sz="4400" spc="-1" strike="noStrike">
              <a:solidFill>
                <a:srgbClr val="000000"/>
              </a:solidFill>
              <a:latin typeface="Arial"/>
            </a:endParaRPr>
          </a:p>
        </p:txBody>
      </p:sp>
      <p:sp>
        <p:nvSpPr>
          <p:cNvPr id="135" name="PlaceHolder 2"/>
          <p:cNvSpPr>
            <a:spLocks noGrp="1"/>
          </p:cNvSpPr>
          <p:nvPr>
            <p:ph/>
          </p:nvPr>
        </p:nvSpPr>
        <p:spPr>
          <a:xfrm>
            <a:off x="457200" y="1371240"/>
            <a:ext cx="8229600" cy="5257800"/>
          </a:xfrm>
          <a:prstGeom prst="rect">
            <a:avLst/>
          </a:prstGeom>
          <a:noFill/>
          <a:ln w="0">
            <a:noFill/>
          </a:ln>
        </p:spPr>
        <p:txBody>
          <a:bodyPr lIns="90000" rIns="90000" tIns="46800" bIns="46800"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estShell name="test1"&gt;</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period&gt;300&lt;/period&gt;</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test class="com.wombat.myTest"&gt;</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DataSource class="c.w.JNDIDS"&gt;</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url&gt;jndi://com.wombat/ds"&lt;/url&gt;</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DataSource&gt;</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test&gt;</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estShell&gt;</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estShell name="test2"&gt;</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period&gt;60&lt;/period&gt;</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test class="com.wombat.myTest2"/&gt;</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estShell&g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error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39"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ltering and evalua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grates well with Jetty and Tomcat</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000000"/>
                </a:solidFill>
                <a:latin typeface="Arial"/>
              </a:rPr>
              <a:t>Access logging: le module logback-access s’intègre bien avec l’access logging de Jetty et Tomcat.</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000000"/>
                </a:solidFill>
                <a:latin typeface="Arial"/>
              </a:rPr>
              <a:t>JMX: logback permet la configuration de ses composants par une interface JMX.</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000000"/>
                </a:solidFill>
                <a:latin typeface="Arial"/>
              </a:rPr>
              <a:t>Ca marche: logback est prêt à l’utilisation, aujourd’hui.</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nit Tested</a:t>
            </a:r>
            <a:endParaRPr b="0" lang="en-US" sz="4400" spc="-1" strike="noStrike">
              <a:solidFill>
                <a:srgbClr val="000000"/>
              </a:solidFill>
              <a:latin typeface="Arial"/>
            </a:endParaRPr>
          </a:p>
        </p:txBody>
      </p:sp>
      <p:sp>
        <p:nvSpPr>
          <p:cNvPr id="15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non-negligible battery of tes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y for production us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Le projet Apache Log4j est depuis une dizaine d’années la référence des librairies Java de journalisation (”logging” pour les anglophones). Son fondateur, Ceki Gülcü, nous fera l’honneur de présenter dans le cadre des mardi gras 10 bonnes raisons pour migrer vers Logback, le successeur de Log4j. Il sera question de la stratégie de migration et des nouveaux APIs tels que SLF4J et Joran. L’accent sera mis sur les aspects pratiques accompagnés de démos plutôt que sur des aspects théoriques relativement abstraits.</a:t>
            </a:r>
            <a:endParaRPr b="0" lang="en-US" sz="12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La présentation aura lieu le mardi 5 décembre de 18h à 19h, à l’auditorium du Geneva Business Center de Petit-Lancy. Pour ne pas changer les bonnes habitudes, l’entrée est libre et gratuite. Il suffit de s’inscrire par mail à be.agile@hortis.ch, par téléphone au +41 22 860 84 60 ou par ajout de commentaire à cet article.</a:t>
            </a:r>
            <a:endParaRPr b="0" lang="en-US" sz="12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Logback, c’est log4j mais en mieux</a:t>
            </a: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Logback s’utilise à travers l’API SLF4J, donc il est possible de changer de système de logging à volonté.</a:t>
            </a: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Logback s’articule autour de Joran, un API de configuration générique, puissant et extrêmement flexible.</a:t>
            </a: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Robustesse: logback utilise un système de rapport d’erreurs internes générique, extrêmement simple et robuste.</a:t>
            </a: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Documentation: toute la doc log4j est graduellement migrée à logback, et disponible gratuitement.</a:t>
            </a: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Filtrage: logback offre un API de filtrage et d’évaluation d’événements très rapide et facile d’utilisation.</a:t>
            </a: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Markers: il est possible de colorier des événements pour un traitement ultérieur hautement spécialisé.</a:t>
            </a: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Access logging: le module logback-access s’intègre bien avec l’access logging de Jetty et Tomcat.</a:t>
            </a: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JMX: logback permet la configuration de ses composants par une interface JMX.</a:t>
            </a: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Ca marche: logback est prêt à l’utilisation, aujourd’hui.</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back ~ log4j</a:t>
            </a:r>
            <a:endParaRPr b="0" lang="en-US" sz="4400" spc="-1" strike="noStrike">
              <a:solidFill>
                <a:srgbClr val="000000"/>
              </a:solidFill>
              <a:latin typeface="Arial"/>
            </a:endParaRPr>
          </a:p>
        </p:txBody>
      </p:sp>
      <p:sp>
        <p:nvSpPr>
          <p:cNvPr id="12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back implements SLF4J</a:t>
            </a:r>
            <a:endParaRPr b="0" lang="en-US" sz="4400" spc="-1" strike="noStrike">
              <a:solidFill>
                <a:srgbClr val="000000"/>
              </a:solidFill>
              <a:latin typeface="Arial"/>
            </a:endParaRPr>
          </a:p>
        </p:txBody>
      </p:sp>
      <p:sp>
        <p:nvSpPr>
          <p:cNvPr id="123" name="PlaceHolder 2"/>
          <p:cNvSpPr>
            <a:spLocks noGrp="1"/>
          </p:cNvSpPr>
          <p:nvPr>
            <p:ph/>
          </p:nvPr>
        </p:nvSpPr>
        <p:spPr>
          <a:xfrm>
            <a:off x="457200" y="1752120"/>
            <a:ext cx="8229600" cy="48006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to logback without changing a single line of code.</a:t>
            </a:r>
            <a:endParaRPr b="0" lang="en-US" sz="4000" spc="-1" strike="noStrike">
              <a:solidFill>
                <a:srgbClr val="000000"/>
              </a:solidFill>
              <a:latin typeface="Arial"/>
            </a:endParaRPr>
          </a:p>
        </p:txBody>
      </p:sp>
      <p:sp>
        <p:nvSpPr>
          <p:cNvPr id="12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grate all log4j and JCL calls to logback without changing a single line of cod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raphically, this can be represented as:</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n-US" sz="1600" spc="-1" strike="noStrike">
                <a:solidFill>
                  <a:srgbClr val="000000"/>
                </a:solidFill>
                <a:latin typeface="Arial"/>
              </a:rPr>
              <a:t>legacy log4j calls &gt;---+</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LF4J calls         &gt;---+---&gt; SLF4J --&gt; logback</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gacy JCL   calls &gt;---+</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600"/>
            </a:br>
            <a:br>
              <a:rPr sz="1600"/>
            </a:br>
            <a:br>
              <a:rPr sz="1600"/>
            </a:br>
            <a:br>
              <a:rPr sz="1600"/>
            </a:br>
            <a:r>
              <a:rPr b="0" lang="en-US"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sp>
        <p:nvSpPr>
          <p:cNvPr id="12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w, if you don't like logback and prefer JUL, you can do the following:</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US" sz="2000" spc="-1" strike="noStrike">
                <a:solidFill>
                  <a:srgbClr val="000000"/>
                </a:solidFill>
                <a:latin typeface="Arial"/>
              </a:rPr>
              <a:t>legacy log4j calls &gt;---+</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LF4J calls        &gt;---+---&gt; SLF4J --+-&gt; JUL</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gacy JCL   calls &gt;---+             ^</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UL  calls         &gt;-----------------+</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r>
              <a:rPr b="0" lang="en-U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or ever?</a:t>
            </a:r>
            <a:endParaRPr b="0" lang="en-US" sz="4400" spc="-1" strike="noStrike">
              <a:solidFill>
                <a:srgbClr val="000000"/>
              </a:solidFill>
              <a:latin typeface="Arial"/>
            </a:endParaRPr>
          </a:p>
        </p:txBody>
      </p:sp>
      <p:sp>
        <p:nvSpPr>
          <p:cNvPr id="12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you would prefer to stick with log4j, you can:</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000000"/>
                </a:solidFill>
                <a:latin typeface="Arial"/>
              </a:rPr>
              <a:t>SLF4J calls        &gt;---+---&gt; SLF4J --+-&gt; log4j</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gacy JCL   calls &gt;---+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4j calls &g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000000"/>
                </a:solidFill>
                <a:latin typeface="Arial"/>
              </a:rPr>
              <a:t>Given the rules it can configure any obje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000000"/>
                </a:solidFill>
                <a:latin typeface="Arial"/>
              </a:rPr>
              <a:t>It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000000"/>
                </a:solidFill>
                <a:latin typeface="Arial"/>
              </a:rPr>
              <a:t>It is generic =&gt; use in your own project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000000"/>
                </a:solidFill>
                <a:latin typeface="Arial"/>
              </a:rPr>
              <a:t>With its implicit rules, you don’t even have to write  your own rules.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repla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33" name="PlaceHolder 2"/>
          <p:cNvSpPr>
            <a:spLocks noGrp="1"/>
          </p:cNvSpPr>
          <p:nvPr>
            <p:ph/>
          </p:nvPr>
        </p:nvSpPr>
        <p:spPr>
          <a:xfrm>
            <a:off x="0" y="1295280"/>
            <a:ext cx="8686800" cy="55627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configurat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ActiveFileName&gt;access.log"&lt;/ActiveFileNam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appender-ref ref="FILE"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configuration&g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6-10-19T18:40:18Z</dcterms:modified>
  <cp:revision>42</cp:revision>
  <dc:subject/>
  <dc:title>Slide 1</dc:title>
</cp:coreProperties>
</file>