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322A5-40A2-443D-A618-D079A7EF69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D6ED024-3CC2-43CD-8151-987F08FC3D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7D26FC0-11FA-42CF-AF49-DC6AB61275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CEB0490-4F70-43F2-9D83-D0DF0912167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2577D1B-BE08-46A3-961E-31078AFD173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A9B602-998C-4FAF-A23A-2774AD6035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4A4AD2-8F57-410C-8305-8AA5E836CA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C7875E-2E2F-4701-A889-7AF228ABEA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1B993A-1012-4351-AAAB-59176347E0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DD4195-312E-46C7-9844-5DCC8C2DA6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33E363-EB85-4236-AAC5-348B85FA90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E1EEF1-CF20-44E2-8756-98F00CF303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390793C-4D8B-473B-8EA1-05C55F9A13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7F9E04-F92D-40D9-8003-F13B62D338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0F3D60-919C-4896-A0A0-FB58C7B4E0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783C0F-4600-4111-8741-B146DBAE95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0A4B7C-8BAC-4166-AEAD-9C64C8EB7D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7A627E-76BD-4DA7-9064-7A3411422C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4C94839-A564-4CD7-9680-35C4CEA4D6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172AEDD-53B4-49D0-9AEF-A9BAE71314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CFC735B-1E43-47EF-8800-C58BE7D899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6B60D9B-B106-4297-8BDC-BE24C8DB1B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867930C-34ED-4EF5-BEF7-9CFFA44E2F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236AB49-A6FF-4500-B5BB-BABBF18D2D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E8E1C28-93AA-4EC9-948A-D62209EA429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66A13-9D29-465C-8D67-11A2F8A75E7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7221D-BB8F-4F6C-AB74-E90538F049E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bugzilla.qos.ch/" TargetMode="External"/><Relationship Id="rId6" Type="http://schemas.openxmlformats.org/officeDocument/2006/relationships/hyperlink" Target="http://bugzill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0"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FileAppender</a:t>
            </a:r>
            <a:endParaRPr b="0" lang="en-US" sz="4400" spc="-1" strike="noStrike">
              <a:solidFill>
                <a:srgbClr val="000000"/>
              </a:solidFill>
              <a:latin typeface="Arial"/>
            </a:endParaRPr>
          </a:p>
        </p:txBody>
      </p:sp>
      <p:sp>
        <p:nvSpPr>
          <p:cNvPr id="14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4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tering and evaluation</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tEval"&g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message != null &amp;&amp;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message.contains("Howdydy-diddly-ho")</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filter&gt;</a:t>
            </a:r>
            <a:r>
              <a:rPr b="0" lang="fr-FR"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grates well with Jetty and Tomc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7200" y="167616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bugzill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27" name=""/>
          <p:cNvGraphicFramePr/>
          <p:nvPr/>
        </p:nvGraphicFramePr>
        <p:xfrm>
          <a:off x="838080" y="2209680"/>
          <a:ext cx="7925040" cy="3364200"/>
        </p:xfrm>
        <a:graphic>
          <a:graphicData uri="http://schemas.openxmlformats.org/presentationml/2006/ole">
            <p:oleObj r:id="rId1" spid="">
              <p:embed/>
              <p:pic>
                <p:nvPicPr>
                  <p:cNvPr id="128" name="" descr=""/>
                  <p:cNvPicPr/>
                  <p:nvPr/>
                </p:nvPicPr>
                <p:blipFill>
                  <a:blip r:embed="rId2"/>
                  <a:stretch/>
                </p:blipFill>
                <p:spPr>
                  <a:xfrm>
                    <a:off x="838080" y="2209680"/>
                    <a:ext cx="7925040" cy="336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0" name=""/>
          <p:cNvGraphicFramePr/>
          <p:nvPr/>
        </p:nvGraphicFramePr>
        <p:xfrm>
          <a:off x="914400" y="1905120"/>
          <a:ext cx="6935760" cy="3981240"/>
        </p:xfrm>
        <a:graphic>
          <a:graphicData uri="http://schemas.openxmlformats.org/presentationml/2006/ole">
            <p:oleObj r:id="rId1" spid="">
              <p:embed/>
              <p:pic>
                <p:nvPicPr>
                  <p:cNvPr id="131" name="" descr=""/>
                  <p:cNvPicPr/>
                  <p:nvPr/>
                </p:nvPicPr>
                <p:blipFill>
                  <a:blip r:embed="rId2"/>
                  <a:stretch/>
                </p:blipFill>
                <p:spPr>
                  <a:xfrm>
                    <a:off x="914400" y="1905120"/>
                    <a:ext cx="6935760" cy="39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3" name=""/>
          <p:cNvGraphicFramePr/>
          <p:nvPr/>
        </p:nvGraphicFramePr>
        <p:xfrm>
          <a:off x="685800" y="2209680"/>
          <a:ext cx="7683480" cy="3262320"/>
        </p:xfrm>
        <a:graphic>
          <a:graphicData uri="http://schemas.openxmlformats.org/presentationml/2006/ole">
            <p:oleObj r:id="rId1" spid="">
              <p:embed/>
              <p:pic>
                <p:nvPicPr>
                  <p:cNvPr id="134" name="" descr=""/>
                  <p:cNvPicPr/>
                  <p:nvPr/>
                </p:nvPicPr>
                <p:blipFill>
                  <a:blip r:embed="rId2"/>
                  <a:stretch/>
                </p:blipFill>
                <p:spPr>
                  <a:xfrm>
                    <a:off x="685800" y="2209680"/>
                    <a:ext cx="7683480" cy="32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6"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38" name="PlaceHolder 2"/>
          <p:cNvSpPr>
            <a:spLocks noGrp="1"/>
          </p:cNvSpPr>
          <p:nvPr>
            <p:ph/>
          </p:nvPr>
        </p:nvSpPr>
        <p:spPr>
          <a:xfrm>
            <a:off x="152280" y="1295280"/>
            <a:ext cx="9601200" cy="5562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configurat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ctiveFileName&gt;access.log"&lt;/ActiveFileNam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ppender-ref ref="FILE"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configuration&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1-26T22:13:43Z</dcterms:modified>
  <cp:revision>116</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