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CB5B5-871A-4F85-A1F0-CC02744772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s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improved filtering and evaluation capabilit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We are working on an log4j-slf4j bridge, similar to the existing jakarta commons logg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CL) to SLF4J  bridge. Users who currently log  through the log4j API can keep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ir existing log  statements (without change).  The bridge will redirect the log4j calls to</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which will in turn delegate to another   logging  system   such   as  logback   or   log4j  or   ev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ava.util.logging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Graphically, this can be represented a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br>
              <a:rPr sz="800"/>
            </a:br>
            <a:r>
              <a:rPr b="0" lang="en-US" sz="800" spc="-1" strike="noStrike">
                <a:solidFill>
                  <a:srgbClr val="000000"/>
                </a:solidFill>
                <a:latin typeface="Arial"/>
              </a:rPr>
              <a:t>Now, if you don't like logback and prefer JUL, you can do the following:</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legacy 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LF4J calls        &gt;---+---&gt; SLF4J --+-&gt; JUL</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JUL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r>
              <a:rPr b="0" lang="en-US" sz="800" spc="-1" strike="noStrike">
                <a:solidFill>
                  <a:srgbClr val="000000"/>
                </a:solidFill>
                <a:latin typeface="Arial"/>
              </a:rPr>
              <a:t>If you would prefer to stick with log4j, you ca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SLF4J calls        &gt;---+---&gt; SLF4J --+-&gt; log4j</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gacy JCL   calls &gt;---+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                                     </a:t>
            </a:r>
            <a:r>
              <a:rPr b="0" lang="en-US" sz="800" spc="-1" strike="noStrike">
                <a:solidFill>
                  <a:srgbClr val="000000"/>
                </a:solidFill>
                <a:latin typeface="Arial"/>
              </a:rPr>
              <a: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og4j calls &gt;------------------------+</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Note that  in the  above diagrams, there  are no direct  logback call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because normally  one goes  through SLF4J to  log with logback.  It i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ctually  a little  less convenient  to log  directly  through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instead   of   (indirectly)   with   SLF4J.  For   example,   logbacks</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umentation  always uses SLF4J.  (There are  no examples  in logback</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docs that use logback directly.)</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en-US" sz="800" spc="-1" strike="noStrike">
                <a:solidFill>
                  <a:srgbClr val="000000"/>
                </a:solidFill>
                <a:latin typeface="Arial"/>
              </a:rPr>
              <a:t>In other words, SLF4J acts as a universal logging API bridging betwee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the various logging systems. Logback  is designed to support SLF4J API</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from the start.</a:t>
            </a:r>
            <a:endParaRPr b="0" lang="en-US" sz="8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d log4j-over-slf4j.jar in your app’s class path.</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6C81E10-E42C-40B7-BCCB-446D633CA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8D53B88-64DE-4BED-874C-8150BC815D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87829383-25F1-45DD-8DDD-F86ED6AE134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5933AAE-65C6-44D9-A773-C6DE6E5599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B70970-A2DE-4479-8356-D5F9A538BFD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50B39C9-553A-4B62-B265-14045D5DE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3DBC6-153C-47C4-98D8-22D357421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924346-C1F0-40D1-886F-F93CCFA443A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EAE2D2-EA4B-4651-9806-D8104CBD602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F86CCAA-6D2B-41E8-A50B-BE45FCFDEA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F10BE8-959A-4A0A-850A-1D021C3581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9F061C1-5731-4851-A83D-2A0CFB4D2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7BC807-492E-4902-AA21-2A615E0D8C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FE3A85-46D0-4ADB-B558-7D64053C91F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50B51F-530E-473B-B47C-436DF47657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5BE96B1-9BE2-4165-AB9E-0AAE79C8B2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4E5563C-1880-4445-BBFE-123BD7828C0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1CA3537D-2E75-414D-9D00-3E0A8C01FC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5884680-4728-42C8-BA6D-9E58C3E3C9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606E1FA-2774-4178-A7C2-F66DA7F458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423AD3A-F467-4E76-B735-6CDD394C447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C03A61D-AB37-4919-872B-80C8DC99A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C1AE24C-8BB8-4E2F-A1D8-18224BE286F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09C737D4-DDD8-4366-BBE3-11D0C8003987}"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133AC-C4B3-40A2-8654-8352FEC434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other example:</a:t>
            </a:r>
            <a:endParaRPr b="0" lang="en-US" sz="4400" spc="-1" strike="noStrike">
              <a:solidFill>
                <a:srgbClr val="000000"/>
              </a:solidFill>
              <a:latin typeface="Arial"/>
            </a:endParaRPr>
          </a:p>
        </p:txBody>
      </p:sp>
      <p:sp>
        <p:nvSpPr>
          <p:cNvPr id="135" name="PlaceHolder 2"/>
          <p:cNvSpPr>
            <a:spLocks noGrp="1"/>
          </p:cNvSpPr>
          <p:nvPr>
            <p:ph/>
          </p:nvPr>
        </p:nvSpPr>
        <p:spPr>
          <a:xfrm>
            <a:off x="457200" y="1371240"/>
            <a:ext cx="8229600" cy="5257800"/>
          </a:xfrm>
          <a:prstGeom prst="rect">
            <a:avLst/>
          </a:prstGeom>
          <a:noFill/>
          <a:ln w="0">
            <a:noFill/>
          </a:ln>
        </p:spPr>
        <p:txBody>
          <a:bodyPr lIns="90000" rIns="90000" tIns="46800" bIns="46800"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1"&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30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 class="c.w.JNDIDS"&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url&gt;jndi://com.wombat/ds"&lt;/ur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DataSource&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 name="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period&gt;60&lt;/period&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test class="com.wombat.myTest2"/&gt;</a:t>
            </a:r>
            <a:endParaRPr b="0" lang="en-US" sz="2400" spc="-1" strike="noStrike">
              <a:solidFill>
                <a:srgbClr val="000000"/>
              </a:solidFill>
              <a:latin typeface="Arial"/>
            </a:endParaRPr>
          </a:p>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estShell&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erro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39"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iltering and evalua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tegrates well with Jetty and Tomcat</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Access logging: le module logback-access s’intègre bien avec l’access logging de Jetty et Tomca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JMX: logback permet la configuration de ses composants par une interface JMX.</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Arial"/>
              </a:rPr>
              <a:t>Ca marche: logback est prêt à l’utilisation, aujourd’hui.</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nit Tested</a:t>
            </a:r>
            <a:endParaRPr b="0" lang="en-US" sz="4400" spc="-1" strike="noStrike">
              <a:solidFill>
                <a:srgbClr val="000000"/>
              </a:solidFill>
              <a:latin typeface="Arial"/>
            </a:endParaRPr>
          </a:p>
        </p:txBody>
      </p:sp>
      <p:sp>
        <p:nvSpPr>
          <p:cNvPr id="15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non-negligible battery of tes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y for production us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e projet Apache Log4j est depuis une dizaine d’années la référence des librairies Java de journalisation (”logging” pour les anglophones). Son fondateur, Ceki Gülcü, nous fera l’honneur de présenter dans le cadre des mardi gras 10 bonnes raisons pour migrer vers Logback, le successeur de Log4j. Il sera question de la stratégie de migration et des nouveaux APIs tels que SLF4J et Joran. L’accent sera mis sur les aspects pratiques accompagnés de démos plutôt que sur des aspects théoriques relativement abstraits.</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a présentation aura lieu le mardi 5 décembre de 18h à 19h, à l’auditorium du Geneva Business Center de Petit-Lancy. Pour ne pas changer les bonnes habitudes, l’entrée est libre et gratuite. Il suffit de s’inscrire par mail à be.agile@hortis.ch, par téléphone au +41 22 860 84 60 ou par ajout de commentaire à cet article.</a:t>
            </a: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c’est log4j mais en mieu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utilise à travers l’API SLF4J, donc il est possible de changer de système de logging à volont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Logback s’articule autour de Joran, un API de configuration générique, puissant et extrêmement flexibl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Robustesse: logback utilise un système de rapport d’erreurs internes générique, extrêmement simple et robuste.</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Documentation: toute la doc log4j est graduellement migrée à logback, et disponible gratuitemen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Filtrage: logback offre un API de filtrage et d’évaluation d’événements très rapide et facile d’utilisation.</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Markers: il est possible de colorier des événements pour un traitement ultérieur hautement spécialisé.</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Access logging: le module logback-access s’intègre bien avec l’access logging de Jetty et Tomcat.</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JMX: logback permet la configuration de ses composants par une interface JMX.</a:t>
            </a:r>
            <a:endParaRPr b="0" lang="en-US" sz="1200" spc="-1" strike="noStrike">
              <a:solidFill>
                <a:srgbClr val="000000"/>
              </a:solidFill>
              <a:latin typeface="Arial"/>
            </a:endParaRPr>
          </a:p>
          <a:p>
            <a:pPr marL="343080" indent="-343080">
              <a:lnSpc>
                <a:spcPct val="80000"/>
              </a:lnSpc>
              <a:spcBef>
                <a:spcPts val="3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1200" spc="-1" strike="noStrike">
                <a:solidFill>
                  <a:srgbClr val="000000"/>
                </a:solidFill>
                <a:latin typeface="Arial"/>
              </a:rPr>
              <a:t>Ca marche: logback est prêt à l’utilisation, aujourd’hu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 log4j</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back implements SLF4J</a:t>
            </a:r>
            <a:endParaRPr b="0" lang="en-US" sz="4400" spc="-1" strike="noStrike">
              <a:solidFill>
                <a:srgbClr val="000000"/>
              </a:solidFill>
              <a:latin typeface="Arial"/>
            </a:endParaRPr>
          </a:p>
        </p:txBody>
      </p:sp>
      <p:sp>
        <p:nvSpPr>
          <p:cNvPr id="123" name="PlaceHolder 2"/>
          <p:cNvSpPr>
            <a:spLocks noGrp="1"/>
          </p:cNvSpPr>
          <p:nvPr>
            <p:ph/>
          </p:nvPr>
        </p:nvSpPr>
        <p:spPr>
          <a:xfrm>
            <a:off x="457200" y="1752120"/>
            <a:ext cx="8229600" cy="48006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to logback without changing a single line of code.</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grate all log4j and JCL calls to logback without changing a single line of cod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aphically, this can be represented a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000000"/>
                </a:solidFill>
                <a:latin typeface="Arial"/>
              </a:rPr>
              <a:t>legacy log4j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LF4J calls         &gt;---+---&gt; SLF4J --&gt; logback</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gacy JCL   calls &gt;---+</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600"/>
            </a:br>
            <a:br>
              <a:rPr sz="1600"/>
            </a:br>
            <a:br>
              <a:rPr sz="1600"/>
            </a:br>
            <a:br>
              <a:rPr sz="1600"/>
            </a:br>
            <a:r>
              <a:rPr b="0" lang="en-US" sz="1600" spc="-1" strike="noStrike">
                <a:solidFill>
                  <a:srgbClr val="000000"/>
                </a:solidFill>
                <a:latin typeface="Arial"/>
              </a:rPr>
              <a:t> </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sp>
        <p:nvSpPr>
          <p:cNvPr id="12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if you don't like logback and prefer JUL, you can do the follow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Arial"/>
              </a:rPr>
              <a:t>legacy log4j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F4J calls        &gt;---+---&gt; SLF4J --+-&gt; JUL</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gacy JCL   calls &gt;---+             ^</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L  calls         &g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n-US" sz="2000" spc="-1" strike="noStrike">
                <a:solidFill>
                  <a:srgbClr val="000000"/>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or ever?</a:t>
            </a:r>
            <a:endParaRPr b="0" lang="en-US" sz="4400" spc="-1" strike="noStrike">
              <a:solidFill>
                <a:srgbClr val="000000"/>
              </a:solidFill>
              <a:latin typeface="Arial"/>
            </a:endParaRPr>
          </a:p>
        </p:txBody>
      </p:sp>
      <p:sp>
        <p:nvSpPr>
          <p:cNvPr id="1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would prefer to stick with log4j, you can:</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US" sz="2800" spc="-1" strike="noStrike">
                <a:solidFill>
                  <a:srgbClr val="000000"/>
                </a:solidFill>
                <a:latin typeface="Arial"/>
              </a:rPr>
              <a:t>SLF4J calls        &gt;---+---&gt; SLF4J --+-&gt; log4j</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gacy JCL   calls &gt;---+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4j calls &g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Given the rules it can configure any obje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It is generic =&gt; use in your own project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3200" spc="-1" strike="noStrike">
                <a:solidFill>
                  <a:srgbClr val="000000"/>
                </a:solidFill>
                <a:latin typeface="Arial"/>
              </a:rPr>
              <a:t>With its implicit rules, you don’t even have to write  your own rules.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repla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33" name="PlaceHolder 2"/>
          <p:cNvSpPr>
            <a:spLocks noGrp="1"/>
          </p:cNvSpPr>
          <p:nvPr>
            <p:ph/>
          </p:nvPr>
        </p:nvSpPr>
        <p:spPr>
          <a:xfrm>
            <a:off x="0" y="1295280"/>
            <a:ext cx="8686800" cy="5562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 name="FILE"</a:t>
            </a:r>
            <a:r>
              <a:rPr b="0" lang="en-US" sz="2000" spc="-1" strike="noStrike">
                <a:solidFill>
                  <a:srgbClr val="000000"/>
                </a:solidFill>
                <a:latin typeface="Courier New"/>
              </a:rPr>
              <a:t>	</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RollingFile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lass="c.q.l.c.r.TimeBased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ctiveFileName&gt;access.log"&lt;/ActiveFileNam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NamePattern&gt;access.</a:t>
            </a:r>
            <a:r>
              <a:rPr b="1" lang="en-US" sz="2000" spc="-1" strike="noStrike">
                <a:solidFill>
                  <a:srgbClr val="000000"/>
                </a:solidFill>
                <a:latin typeface="Courier New"/>
              </a:rPr>
              <a:t>%d</a:t>
            </a:r>
            <a:r>
              <a:rPr b="0" lang="en-US" sz="2000" spc="-1" strike="noStrike">
                <a:solidFill>
                  <a:srgbClr val="000000"/>
                </a:solidFill>
                <a:latin typeface="Courier New"/>
              </a:rPr>
              <a:t>.log&lt;/FileName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rollingPolicy&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 class="c.q.l.access.Pattern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attern"&gt;combined&lt;/Patter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layou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appender-ref ref="FILE"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configuration&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0-19T18:40:18Z</dcterms:modified>
  <cp:revision>42</cp:revision>
  <dc:subject/>
  <dc:title>Slide 1</dc:title>
</cp:coreProperties>
</file>