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C9E5A-E7D3-493E-BDAA-E5EDA42A22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F474999-2D9B-4CEC-80F9-B8858F35D0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6305EDC-474F-433B-A0A2-5F69C8DBC9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C21BF06-7F77-4540-AE8B-843081A0386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91E049B-DB10-4CE2-B47C-54B399406BF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2C1613-6B84-45EC-AFB4-4524BC4CB2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CF6A53-8ED3-41EE-BB29-FDF7A61852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08C066-0738-4EB2-AE68-5C6158BF64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7CD469-AC5D-46FE-BBD8-52D17076AB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1854E6-D1D6-47D1-961B-C2B64DC119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A8E9A3-A1CF-4977-849D-D74A8B32E0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796DE6-BC3D-4F6B-BE48-CF790AB959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BBA7DE1-F00F-4622-9ADC-7EFB80A35E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FD1766-33AA-4216-802A-751D139EF9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BAB79E-B36C-4049-B97B-CD70A461AC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BC913C-8ED0-42C5-B05D-01633C950C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F06E96-09B5-4121-9543-24C52C341B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D603FF-0202-4624-88BE-B49C0A315B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DF79EE6-ECFD-4681-8347-2A0323DCB2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BC329AB-4C91-4EED-ACBA-CB523EEB27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5F27920-C432-415D-8030-3EEAA4497A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77A33E8-101B-467F-8150-047955CFBE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A9DF4E7-FE78-438D-B143-15CA1EB18B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354EB85-1B7A-44B7-ACC1-4D23D66AA8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96A096C-5DE4-4CE6-9DCE-C192A520E17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645BF-9F97-4A5B-BD85-D555B19BC18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937E9-58CE-402A-AB42-D621922C127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bugzilla.qos.ch/" TargetMode="External"/><Relationship Id="rId6" Type="http://schemas.openxmlformats.org/officeDocument/2006/relationships/hyperlink" Target="http://bugzill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3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1920" y="1447560"/>
            <a:ext cx="85345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ctiveFileName&gt;access.log"&lt;/ActiveFileNam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ccess.</a:t>
            </a:r>
            <a:r>
              <a:rPr b="1" lang="en-US" sz="1800" spc="-1" strike="noStrike">
                <a:solidFill>
                  <a:srgbClr val="000000"/>
                </a:solidFill>
                <a:latin typeface="Courier New"/>
              </a:rPr>
              <a:t>%d</a:t>
            </a:r>
            <a:r>
              <a:rPr b="0" lang="en-US" sz="1800" spc="-1" strike="noStrike">
                <a:solidFill>
                  <a:srgbClr val="000000"/>
                </a:solidFill>
                <a:latin typeface="Courier New"/>
              </a:rPr>
              <a:t>.log.</a:t>
            </a:r>
            <a:r>
              <a:rPr b="1" lang="en-US" sz="1800" spc="-1" strike="noStrike">
                <a:solidFill>
                  <a:srgbClr val="000000"/>
                </a:solidFill>
                <a:latin typeface="Courier New"/>
              </a:rPr>
              <a:t>zip</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ref ref="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ead of</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7200" y="1676160"/>
            <a:ext cx="822960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bugzill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6"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28" name=""/>
          <p:cNvGraphicFramePr/>
          <p:nvPr/>
        </p:nvGraphicFramePr>
        <p:xfrm>
          <a:off x="838080" y="2209680"/>
          <a:ext cx="7925040" cy="3364200"/>
        </p:xfrm>
        <a:graphic>
          <a:graphicData uri="http://schemas.openxmlformats.org/presentationml/2006/ole">
            <p:oleObj r:id="rId1" spid="">
              <p:embed/>
              <p:pic>
                <p:nvPicPr>
                  <p:cNvPr id="129" name="" descr=""/>
                  <p:cNvPicPr/>
                  <p:nvPr/>
                </p:nvPicPr>
                <p:blipFill>
                  <a:blip r:embed="rId2"/>
                  <a:stretch/>
                </p:blipFill>
                <p:spPr>
                  <a:xfrm>
                    <a:off x="838080" y="2209680"/>
                    <a:ext cx="7925040" cy="336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1" name=""/>
          <p:cNvGraphicFramePr/>
          <p:nvPr/>
        </p:nvGraphicFramePr>
        <p:xfrm>
          <a:off x="914400" y="1905120"/>
          <a:ext cx="6935760" cy="3981240"/>
        </p:xfrm>
        <a:graphic>
          <a:graphicData uri="http://schemas.openxmlformats.org/presentationml/2006/ole">
            <p:oleObj r:id="rId1" spid="">
              <p:embed/>
              <p:pic>
                <p:nvPicPr>
                  <p:cNvPr id="132" name="" descr=""/>
                  <p:cNvPicPr/>
                  <p:nvPr/>
                </p:nvPicPr>
                <p:blipFill>
                  <a:blip r:embed="rId2"/>
                  <a:stretch/>
                </p:blipFill>
                <p:spPr>
                  <a:xfrm>
                    <a:off x="914400" y="1905120"/>
                    <a:ext cx="6935760" cy="398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4" name=""/>
          <p:cNvGraphicFramePr/>
          <p:nvPr/>
        </p:nvGraphicFramePr>
        <p:xfrm>
          <a:off x="457200" y="2176560"/>
          <a:ext cx="8229600" cy="3494160"/>
        </p:xfrm>
        <a:graphic>
          <a:graphicData uri="http://schemas.openxmlformats.org/presentationml/2006/ole">
            <p:oleObj r:id="rId1" spid="">
              <p:embed/>
              <p:pic>
                <p:nvPicPr>
                  <p:cNvPr id="135" name="" descr=""/>
                  <p:cNvPicPr/>
                  <p:nvPr/>
                </p:nvPicPr>
                <p:blipFill>
                  <a:blip r:embed="rId2"/>
                  <a:stretch/>
                </p:blipFill>
                <p:spPr>
                  <a:xfrm>
                    <a:off x="457200" y="2176560"/>
                    <a:ext cx="8229600" cy="3494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1-29T21:42:36Z</dcterms:modified>
  <cp:revision>13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