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99F43-D686-4DCA-BC5D-5778E8F8DE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9045407-702D-4AC4-A13C-5DA7ECE533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BFBEE9-CBFB-4CE5-83BA-CC26793486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03B34FC-24FE-4BE8-9B70-40AA3AB8C5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A95199-C5B6-4C57-807D-C84B98A18A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70E961-1EFB-4269-AC73-59F66F1180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B8EB69-5A54-41C9-B0C5-20DBE0FEAF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47D849-3C70-4781-A405-82E7D067D2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DABF8-B501-4F13-B2F4-8CEC9D4F6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741E4-3066-467B-A86B-BDD6FEE6C7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038199-CA57-4FE4-9DAF-25912B2AD6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19B35-B620-49A8-8D6F-9FAA25D4C0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A1004A-E304-4292-932C-77ACDF39D4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91DF8-FA80-4AEC-9136-F363395B5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397C4-D162-48A0-A82A-69E769F61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0CD747-623D-4FCC-BBE9-C1675192B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952A8B-E864-45F5-91B2-CA181A5E4B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9682F9-C3E2-48D0-A279-3C5A12A99B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438065-A246-4AFB-8ECD-958933565A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C5998D-7F47-4024-B267-337B1169F4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C0D0BE-46CA-4294-88D3-EB0EAD4D42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123BC0-3459-484E-B758-4C689C45A7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AB5174-684C-4CC6-97F8-10F04F0DC2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EC6F3B-6359-4FB5-93DC-60C36305F4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7ECF83-A5C6-4085-ADB3-7DFEA3CE1D6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D115B-74DF-499C-9847-7FCF7D502D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1F668-CD24-4CF8-A45B-9D79B21A69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0"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FileAppender</a:t>
            </a: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4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ing and evaluation</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tEval"&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message != null &amp;&amp;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message.contains("Howdydy-diddly-h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filter&gt;</a:t>
            </a:r>
            <a:r>
              <a:rPr b="0" lang="fr-F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es well with Jetty and Tomc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7" name=""/>
          <p:cNvGraphicFramePr/>
          <p:nvPr/>
        </p:nvGraphicFramePr>
        <p:xfrm>
          <a:off x="838080" y="2209680"/>
          <a:ext cx="7925040" cy="3364200"/>
        </p:xfrm>
        <a:graphic>
          <a:graphicData uri="http://schemas.openxmlformats.org/presentationml/2006/ole">
            <p:oleObj r:id="rId1" spid="">
              <p:embed/>
              <p:pic>
                <p:nvPicPr>
                  <p:cNvPr id="128"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0" name=""/>
          <p:cNvGraphicFramePr/>
          <p:nvPr/>
        </p:nvGraphicFramePr>
        <p:xfrm>
          <a:off x="914400" y="1905120"/>
          <a:ext cx="6935760" cy="3981240"/>
        </p:xfrm>
        <a:graphic>
          <a:graphicData uri="http://schemas.openxmlformats.org/presentationml/2006/ole">
            <p:oleObj r:id="rId1" spid="">
              <p:embed/>
              <p:pic>
                <p:nvPicPr>
                  <p:cNvPr id="131"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3" name=""/>
          <p:cNvGraphicFramePr/>
          <p:nvPr/>
        </p:nvGraphicFramePr>
        <p:xfrm>
          <a:off x="685800" y="2209680"/>
          <a:ext cx="7683480" cy="3262320"/>
        </p:xfrm>
        <a:graphic>
          <a:graphicData uri="http://schemas.openxmlformats.org/presentationml/2006/ole">
            <p:oleObj r:id="rId1" spid="">
              <p:embed/>
              <p:pic>
                <p:nvPicPr>
                  <p:cNvPr id="134" name="" descr=""/>
                  <p:cNvPicPr/>
                  <p:nvPr/>
                </p:nvPicPr>
                <p:blipFill>
                  <a:blip r:embed="rId2"/>
                  <a:stretch/>
                </p:blipFill>
                <p:spPr>
                  <a:xfrm>
                    <a:off x="685800" y="2209680"/>
                    <a:ext cx="7683480" cy="32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6"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38" name="PlaceHolder 2"/>
          <p:cNvSpPr>
            <a:spLocks noGrp="1"/>
          </p:cNvSpPr>
          <p:nvPr>
            <p:ph/>
          </p:nvPr>
        </p:nvSpPr>
        <p:spPr>
          <a:xfrm>
            <a:off x="152280" y="1295280"/>
            <a:ext cx="960120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ctiveFileName&gt;access.log"&lt;/ActiveFileNam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ref ref="FILE"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6T22:13:43Z</dcterms:modified>
  <cp:revision>116</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