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F6F4-5BFC-4DF4-92F1-49C19FB6C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EFFC3-172E-4E5E-AB26-F356FF44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7B337-ED93-4F9E-9CE9-6EDE33C3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F12E7-0366-4DC8-BDAA-0F5791D1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58336-3F2B-4969-9A8B-D642B5B0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E262-CD9B-4E65-9321-A78262D7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0904-C464-42B9-AFE0-56108F42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E996-A882-49A2-95ED-31C0915A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BBBD-13C5-47F2-8A6C-74510C2E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A017-4814-467A-BFA1-FF21CB7F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46BA-3A50-43C5-991B-E38F4B88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B485-7F79-4923-9075-67B14B18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E56FE-5BFC-434C-BCD4-331F32B6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8C68-644F-4C05-A17F-634B9598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2C86-A1B2-4D41-A623-EBF2852F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0493-F89C-41AC-9817-5D4D9886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E341-06FA-4787-AFBB-A50486DF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792B-101B-4C50-8620-C8E8C1F6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665B7-078F-4145-9FC4-A862D701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EE0C3-9F44-49B1-BA49-76E1E7D9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4C447-9AC7-480E-8E4D-D75D2BC1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E8D5C-8BCC-49A5-9B8C-9D12A601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C2E8F-3596-40CD-A74D-25225863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5C213-7BC0-4320-B98B-E08B89F3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6D513-1307-4E75-9B9F-010EF8B0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5AB3-6760-452B-8980-C21ACE7EB2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(DRAFT)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back ~ log4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zip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 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rate all log4j and JCL calls to logback without changing a single line of co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, if you don't like logback and prefer JUL, you do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ould prefer to stick with log4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</cp:lastModifiedBy>
  <dcterms:modified xsi:type="dcterms:W3CDTF">2006-10-21T16:25:34Z</dcterms:modified>
  <cp:revision>86</cp:revision>
  <dc:subject/>
  <dc:title>Slide 1</dc:title>
</cp:coreProperties>
</file>