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554D-FF37-4995-882A-B23328554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CF0F0-9B68-466E-9F4B-F1DDE5A9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418A2-3777-4167-BBC9-CA939C43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128E8-06B3-46BA-81E1-0748167F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E1E4B-EBDD-4160-9357-862C6272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8F35-9412-4B1D-A352-03654C7C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2354-9418-40F6-9FF1-E70CF1CD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A678-357B-4BD7-A753-E621886A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5198-CDCA-4095-8239-0E1EE8B2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FA75-FCA0-4EBA-9E72-8E533CB4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A240-B0C0-4EB4-8396-08C2107E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6F4A-2721-4818-A5D9-895463EC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8DDFB-2488-4A00-B565-D65E6B68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D5BE-C9FC-46DC-B1C6-EA6320EA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C78B-2A0E-4B68-BA05-42568051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8B28-16B0-4A68-8D8A-1492BADB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9017-CBEB-4A81-81C8-9569274E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5DAA-48E3-41B2-9CE8-F7BB9B96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5D8CA-2434-4FA2-8A41-B5E47686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ED656-CC8A-45B7-92E6-3873E0DC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89E76-04D6-49FF-96CA-DF369DF6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C750B-87B4-486B-B9B7-4B5CEC3F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B72EE-3E45-447D-87AA-2EB53A3F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AD3A6-F53E-4860-AE81-611533AB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27ADE-5408-4589-847E-2963C313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F7C4-EEBF-49A9-8095-766581558D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(DRAFT)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back ~ log4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zip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 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rate all log4j and JCL calls to logback without changing a single line of co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, if you don't like logback and prefer JUL, you do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ould prefer to stick with log4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</cp:lastModifiedBy>
  <dcterms:modified xsi:type="dcterms:W3CDTF">2006-10-21T16:25:34Z</dcterms:modified>
  <cp:revision>86</cp:revision>
  <dc:subject/>
  <dc:title>Slide 1</dc:title>
</cp:coreProperties>
</file>