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E3091-7447-4950-8F85-DB0FDDFF07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mentioned previously, we've used Joran (part of logback-core) to implement a monitoring framewor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eeded to recreate sophisticated test object anew each time we needed to perform a verification. Joran's unique capability of selectively replaying parts of a configuration was a perfect mat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cannot log because it has no notion of a "logger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gers are defined in logback-class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hort, a Status object contains a message, an origin, and a level. Moreover, a Status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have children, which may have children of their 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ffective level of a Status is equal to highest level of either itself or in any one of its childr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t any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e Status API is generic and can be used projects other than log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code ready for distribution only after it is properly documented, which is the main reason why logback carries a 0.x version stamp instead of 1.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hould we dem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_EXCEPTIO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JMX coun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ry to log4j, where we wrote many regression tests, in logback, we have learned our lesson well. We write many more unit tests and fewer integration te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st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rtain critical operations, for instance determining whether a log statement should be logged or not, has been significantly improved. This operation takes about 3 nanoseconds in logback versus 30 nanoseconds in log4j. Logback also creates loggers faster : 13 microseconds instead versus 23 microseconds for log4j. More importantly, it fetches an existing logger in 94 nanoseconds versus 2234 nanoseconds for log4j, a 23 fold improvement. The improvement over JUL is also far from insignific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mall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ach logger instance uses up about 40 bytes of memory version 160 bytes for log4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re bang for the buck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ogback does a better job of presenting logs, has much improved filtering and evaluation capability. In short, it does everything that log4j does and more, but be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forms the foundation upon which the other two modules are built. Interestingly enough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has no notion of such a thing as a logger. We have recently built a monitoring framework on top of just logback-core (without logback classic or acces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lassic relies on logback-core for basic services. It natively implements the SLF4J AP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access integrates with servlet containers. Thus, the capabilities of a fully-fledged logging system becomes available in any servlet contain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 are working on an log4j-slf4j bridge, similar to the existing jakarta commons logg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JCL) to SLF4J  bridge. Users who currently log  through the log4j API can keep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ir existing log  statements (without change).  The bridge will redirect the log4j call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which will in turn delegate to another   logging  system   such   as  logback   or   log4j  or   ev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va.util.logging (JUL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phically, this can be represented a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        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 &gt;---+---&gt; SLF4J --&gt;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w, if you don't like logback and prefer JUL, you can do the following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JU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L  calls         &gt;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you would prefer to stick with log4j, you ca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log4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g4j calls &gt;-------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 that  in the  above diagrams, there  are no direct  logback cal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cause normally  one goes  through SLF4J to  log with logback.  It 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tually  a little  less convenient  to log  directly  through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ead   of   (indirectly)   with   SLF4J.  For   example,   logbac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umentation  always uses SLF4J.  (There are  no examples  in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s that use logback directly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other words, SLF4J acts as a universal logging API bridging betwe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various logging systems. Logback  is designed to support SLF4J AP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 the st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f you to delegate all logging to JCL? Peace of cake! Just place slf4j-jcl.jar in yo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’s class path. To bridge legacy log4j calls to SLF4J,  add log4j-over-slf4j.jar to your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prefer to stick with log4j as your underlying logging system? No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place slf4j-log4j12.jar in your application’s class path. To bridge JCL call’s to SLF4J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log4j-over-slf4j.jar in your app’s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 with MultiFileAppender might be interes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 is an abbreviation of  ch.qos.log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.c.r stands for ch.qos.logback.core.r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063857-7FA8-42CA-A14C-F59C2AF4B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0091F3-03EC-41BF-9387-7B8DD579F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A15B3C-B57F-43AB-8F6C-4717EF3C8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775412-65D3-4938-AA99-41DB55661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4DF87-412B-41EF-AA0C-3EAC7AC03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FA68E-EC42-48C5-B419-91E72194C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BEACD-CBC2-4B3E-9996-0D527681F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64119-E259-40DD-909B-1640E622D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2C1AF-04C9-4374-9CED-3B1F76C0F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28F8B-87C3-45B8-9B37-9FB26A805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020CB-9646-4E86-BBB8-9CCA655E8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6707E6-800E-4F61-8808-17AADDE01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71B19-DB2E-41FE-BEC2-7D1F506BA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BB327-9963-4559-8386-D94856393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67DC7-FA5D-4E19-8670-591B26DE2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EBECF-F620-4CBF-97B2-360FBC9C1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58D68-2BB7-4BEC-A39E-94ECF8054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B038F9-14E4-451E-942C-764D4F56D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7A7A34-50C0-4231-B9B6-67975DA51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C6B087-0E20-4357-8F72-1B6765C15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9889B-A0F0-47D2-BE86-196C383A8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B90E9B-B39D-4568-84BB-D365B28B6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37685A-CF53-4360-A6AD-592B96DA3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27D52E-4255-45CB-A1EC-120241A43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A83FD-8E5A-40BE-B720-34CE897BD9D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7391520" y="0"/>
            <a:ext cx="1752480" cy="942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990720"/>
            <a:ext cx="7848360" cy="4572000"/>
            <a:chOff x="0" y="990720"/>
            <a:chExt cx="7848360" cy="4572000"/>
          </a:xfrm>
        </p:grpSpPr>
        <p:sp>
          <p:nvSpPr>
            <p:cNvPr id="53" name=""/>
            <p:cNvSpPr/>
            <p:nvPr/>
          </p:nvSpPr>
          <p:spPr>
            <a:xfrm>
              <a:off x="0" y="990720"/>
              <a:ext cx="3008520" cy="4572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472760" y="2117520"/>
              <a:ext cx="6375600" cy="16891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701720"/>
              <a:ext cx="2460240" cy="2104920"/>
              <a:chOff x="0" y="1701720"/>
              <a:chExt cx="2460240" cy="2104920"/>
            </a:xfrm>
          </p:grpSpPr>
          <p:sp>
            <p:nvSpPr>
              <p:cNvPr id="56" name=""/>
              <p:cNvSpPr/>
              <p:nvPr/>
            </p:nvSpPr>
            <p:spPr>
              <a:xfrm>
                <a:off x="491760" y="3379320"/>
                <a:ext cx="494640" cy="4273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472760" y="2117520"/>
                <a:ext cx="492840" cy="428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957680" y="1701720"/>
                <a:ext cx="502560" cy="4233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979560" y="3379320"/>
                <a:ext cx="501120" cy="4273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957680" y="2117520"/>
                <a:ext cx="502560" cy="428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979560" y="2539800"/>
                <a:ext cx="501120" cy="4219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39800"/>
                <a:ext cx="499680" cy="4219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472760" y="2539800"/>
                <a:ext cx="492840" cy="4219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91760" y="2955960"/>
                <a:ext cx="494640" cy="42948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979560" y="2955960"/>
                <a:ext cx="501120" cy="42948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2095560" cy="609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667560" y="0"/>
            <a:ext cx="2476440" cy="13334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logback.qos.ch/" TargetMode="External"/><Relationship Id="rId2" Type="http://schemas.openxmlformats.org/officeDocument/2006/relationships/hyperlink" Target="http://svn.qos.ch/" TargetMode="External"/><Relationship Id="rId3" Type="http://schemas.openxmlformats.org/officeDocument/2006/relationships/hyperlink" Target="mailto:logback-user@qos.ch" TargetMode="External"/><Relationship Id="rId4" Type="http://schemas.openxmlformats.org/officeDocument/2006/relationships/hyperlink" Target="http://bugzilla.qos.ch/" TargetMode="External"/><Relationship Id="rId5" Type="http://schemas.openxmlformats.org/officeDocument/2006/relationships/hyperlink" Target="http://bugzilla.qos.ch/" TargetMode="External"/><Relationship Id="rId6" Type="http://schemas.openxmlformats.org/officeDocument/2006/relationships/hyperlink" Target="http://bugzilla.qos.ch/" TargetMode="Externa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10 reasons to use logback (DRAFT)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990720" y="419112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eki Gülcü &amp; Sébastien Pennec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other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1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30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!-- we need to configure a totally new te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ect for each run of the test -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DataSource class="c.w.JNDIDS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url&gt;jndi://com.wombat/ds"&lt;/ur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DataSourc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6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&gt;c:/wombat/foo.properties&lt;/fil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FileAppe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nal error repor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 module cannot log to report its own 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hing more generic i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 A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tatus 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INF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WAR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Effective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bject getOrigi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getMessag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rowable getThrowabl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hasChildre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dd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emove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terator&lt;Status&gt; iterato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area of eff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 Introdu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manual (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hort introduction to access logging with logback-access and Jet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ntroduction to Jo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doc, FAQ, error codes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tering and 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rs for specialized hand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ing for highly-specialized processing of log stat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ss 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s well with Jetty and Tomc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M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components can be configured using JM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ed &amp; Re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ttery of over 200 unit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s written concomitantly with the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is here and ready for use in prod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back ~ log4j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e basic plumbing only done bet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volution, only ev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er, smaller, higher gas mileage, and generally more bang for the bu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dds and 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lingFileAppender zip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TPAppender subject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fold improvement in the speed of transporting logging events over the w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ger name abbreviation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docs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logback.qos.ch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the code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svn.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o us at 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logback-user@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a bug report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bugzilla.qos.ch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to us at +41 21 312 32 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ular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las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gback classic speaks SLF4J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as mother tongu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delegate to log4j, logback, java.util.logging or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bridge log4j and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offers a native implementation of the SLF4J AP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exposes its logging API through SLF4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914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grate all log4j and JCL calls 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thout changing a single line of co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66688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grate all log4j and JCL calls to logback without changing a single line of cod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ally, this can be represented a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                             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F4J calls         &gt;---+---&gt; SLF4J --&gt; logb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                     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gacy JCL   calls &gt;---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you prefer JU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w, if you don't like logback and prefer JUL, you do the follow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J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L  calls         &gt;-----------------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4j for ev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would prefer to stick with log4j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log4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4j calls &gt;------------------------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ran: a bowl of fresh 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rules (patterns &amp; actions) it can configure any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generic (can be used in your projec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ran can learn new rules on the f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its implicit rules, you don’t even have to write your own ru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do partial re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iguration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9601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 name="FILE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RollingFileAppender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rolling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TimeBasedRollingPolic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veFileName&gt;access.log"&lt;/ActiveFile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NamePattern&gt;access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log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i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FileNamePatter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rollingPolic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layout class="c.q.l.access.PatternLayou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attern"&gt;combined&lt;/Pattern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layou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append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-ref ref="FILE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21:33:38Z</dcterms:created>
  <dc:creator>Ceki </dc:creator>
  <dc:description/>
  <dc:language>en-US</dc:language>
  <cp:lastModifiedBy>Ceki </cp:lastModifiedBy>
  <dcterms:modified xsi:type="dcterms:W3CDTF">2006-10-21T16:25:34Z</dcterms:modified>
  <cp:revision>86</cp:revision>
  <dc:subject/>
  <dc:title>Slide 1</dc:title>
</cp:coreProperties>
</file>