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CDBF-8A62-4282-8056-97ADDB8B4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2ACC8C-26BE-4BAC-8ADC-5D0C13FC2A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195C0D-071E-433C-938E-231570AE1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605747-0FA5-4B5C-81EA-3DE473D392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D455E0-1BDF-43E7-AEC7-5CE9A6CD36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9F9575-DDAF-45A5-9B3D-77EADE48D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1EB0D-E11D-491A-8C68-CF78C1A9F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A92ED-EC52-4663-AC40-0CCE1D6BC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08C21-5CBA-4564-8660-520C6B558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B3A42-33BF-4E15-A49D-1F9A4AC27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2D4AE-A7CB-40FC-980A-8539AB388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D722F-9F5F-4449-ACD3-32EE1E65A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2A7613-C9E4-4F5C-A6B9-52CE52C75E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3069F-5BBC-4D12-88D6-C98132A0E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03C29-CF5F-41E4-9741-083BC2D21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0A3F4-CB43-4C23-B610-39D013454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DE324-7A8C-4D73-933B-673C1EECFA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8E25C-AA80-46D6-9E94-ECC3B8C8B4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13B01F-7777-450F-B3C2-4A57DFFCD6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9A41FA-CEFC-4DC6-9894-3E5E6F9F2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3954A6-E7A4-40E6-8B33-FDA707D594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8CC47D-D7CF-413A-9180-074AC0FEF2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2C3F2A-BB3B-4BC7-82C2-5221C339F4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781192-5D8A-4555-A160-41838F6BC2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A14A38-7A4F-4808-A74E-4D6AB987BD4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0BE5-0444-4FCC-9D6F-2DB2775639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C550-CA10-43D6-8970-9359B89114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0"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FileAppender</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4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tEval"&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 != null &amp;&amp;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contains("Howdydy-diddly-h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gt;</a:t>
            </a:r>
            <a:r>
              <a:rPr b="0"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s well with Jetty and Tomc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7" name=""/>
          <p:cNvGraphicFramePr/>
          <p:nvPr/>
        </p:nvGraphicFramePr>
        <p:xfrm>
          <a:off x="838080" y="2209680"/>
          <a:ext cx="7925040" cy="3364200"/>
        </p:xfrm>
        <a:graphic>
          <a:graphicData uri="http://schemas.openxmlformats.org/presentationml/2006/ole">
            <p:oleObj r:id="rId1" spid="">
              <p:embed/>
              <p:pic>
                <p:nvPicPr>
                  <p:cNvPr id="128"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0" name=""/>
          <p:cNvGraphicFramePr/>
          <p:nvPr/>
        </p:nvGraphicFramePr>
        <p:xfrm>
          <a:off x="914400" y="1905120"/>
          <a:ext cx="6935760" cy="3981240"/>
        </p:xfrm>
        <a:graphic>
          <a:graphicData uri="http://schemas.openxmlformats.org/presentationml/2006/ole">
            <p:oleObj r:id="rId1" spid="">
              <p:embed/>
              <p:pic>
                <p:nvPicPr>
                  <p:cNvPr id="131"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3" name=""/>
          <p:cNvGraphicFramePr/>
          <p:nvPr/>
        </p:nvGraphicFramePr>
        <p:xfrm>
          <a:off x="685800" y="2209680"/>
          <a:ext cx="7683480" cy="3262320"/>
        </p:xfrm>
        <a:graphic>
          <a:graphicData uri="http://schemas.openxmlformats.org/presentationml/2006/ole">
            <p:oleObj r:id="rId1" spid="">
              <p:embed/>
              <p:pic>
                <p:nvPicPr>
                  <p:cNvPr id="134" name="" descr=""/>
                  <p:cNvPicPr/>
                  <p:nvPr/>
                </p:nvPicPr>
                <p:blipFill>
                  <a:blip r:embed="rId2"/>
                  <a:stretch/>
                </p:blipFill>
                <p:spPr>
                  <a:xfrm>
                    <a:off x="685800" y="2209680"/>
                    <a:ext cx="7683480" cy="32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6"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8" name="PlaceHolder 2"/>
          <p:cNvSpPr>
            <a:spLocks noGrp="1"/>
          </p:cNvSpPr>
          <p:nvPr>
            <p:ph/>
          </p:nvPr>
        </p:nvSpPr>
        <p:spPr>
          <a:xfrm>
            <a:off x="152280" y="1295280"/>
            <a:ext cx="96012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6T22:13:43Z</dcterms:modified>
  <cp:revision>116</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