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4C2252-47F5-4562-8803-C7AFA52CA8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2C81F36-099F-499C-BF02-8DDF484BA01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C4BC4FC-0F19-4C92-B496-48DC8CA930C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3943874-0E7E-4584-A210-09FD9718DCF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A80D66E-5475-41F1-8781-35AD20ACE9E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232CFB4-6FC0-4828-B434-5FC8089E500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149289-EBBB-476B-8745-3D5A1D730A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8BE2D7-B4AD-4FD2-85CB-84E0759BC4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620AAE-4A91-46F6-92FF-B5844FE575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EC4345-0BE8-4101-A4E5-99F117BA0C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B889A5-14B2-4486-AA03-558F2EEC3C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0AB320-5DAD-4335-BE55-FFF2BE1E1A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659FB0E-7AFC-4687-92FA-B3DE6F21C0F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C38351-83D3-4A66-9CCB-119E8E9BEE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8C339C-3D53-484D-B2D9-DF1E971821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0FE387-DDB7-43CA-AE48-BEE69A05CA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0493C40-B5E5-4CAE-ABD9-78B5782F4A5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D7B210A-6653-4542-AFAD-36E7C311053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B156CBB-EC8D-4396-8439-756C1D84708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7EE925F-508E-418D-94A2-EF192444FE4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093EAE8-95D9-4237-B9BD-67A7871B7AB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0177D0F-36C8-4CA2-B0C1-489FB72EE59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03721AC-E23F-4EF3-8C7E-5D1A5587D0A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4815839-CB05-45F6-BD10-CD57AA868B1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5CDA391-EA78-4BAC-A577-B54BE6CFB2F3}"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8F2463-746C-412C-B231-01BED6327FB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19E8B8-9A00-49E6-BFA8-E54E31C2169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irc.freenode.net/#logback."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E4DAF856-0144-4264-AB69-E7DBF5DD90B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3359B6A-B51E-46BD-ACC8-28A1278A02C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30BF5789-1140-41C4-A4DE-733E71511FA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7CE26BDF-D10F-4B51-B08F-526BB99E7DC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1F3F3C9-5BFA-4EE8-9D59-EDE119B3BF4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925FD8F-50DC-47BB-B58A-5D43658E514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64E9FD4-BC4E-4C3E-88D2-264D16139B1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F16CD97-5B3D-4884-A8D9-0AE596B56D1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D397C90-CEE2-4174-A3A7-845500CCAB1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50AF6D8-95FF-47AC-898A-DD45AF2F1D9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48BBAEFB-3E77-4F4A-B6EC-1E6409541C3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709C6D27-0B32-45A1-A20C-CDD55A061B4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F1947DFD-2669-4856-93BD-117865D50EE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05555339-2D0C-41B8-BE89-74AE3AB52A8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A77AFBF-0386-44EC-99F0-C45C036E0D5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A5DF5E4-F7BA-4229-BF6A-1EF8E8847FE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AA1BDBA-F533-4676-979C-5E56441A01F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C035D66-C527-495A-AD9A-D98F3A2F9D3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bugzill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a:t>
            </a:r>
            <a:r>
              <a:rPr b="0" lang="en-US" sz="3200" spc="-1" strike="noStrike" u="sng">
                <a:solidFill>
                  <a:srgbClr val="666699"/>
                </a:solidFill>
                <a:uFillTx/>
                <a:latin typeface="Arial"/>
                <a:hlinkClick r:id="rId5"/>
              </a:rPr>
              <a:t>irc.freenode.net#logback</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2651653-7921-457E-A215-07DAA27A441D}"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2474F082-D6DA-48E7-B133-59D91E43D03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6161F33-0B0C-4B0D-BE26-7346D68213B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8"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6FE71C7-419D-48C9-9AE4-F278A9794B4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30" name=""/>
          <p:cNvGraphicFramePr/>
          <p:nvPr/>
        </p:nvGraphicFramePr>
        <p:xfrm>
          <a:off x="609480" y="2362320"/>
          <a:ext cx="7848720" cy="3332160"/>
        </p:xfrm>
        <a:graphic>
          <a:graphicData uri="http://schemas.openxmlformats.org/presentationml/2006/ole">
            <p:oleObj r:id="rId1" spid="">
              <p:embed/>
              <p:pic>
                <p:nvPicPr>
                  <p:cNvPr id="131" name="" descr=""/>
                  <p:cNvPicPr/>
                  <p:nvPr/>
                </p:nvPicPr>
                <p:blipFill>
                  <a:blip r:embed="rId2"/>
                  <a:stretch/>
                </p:blipFill>
                <p:spPr>
                  <a:xfrm>
                    <a:off x="609480" y="2362320"/>
                    <a:ext cx="7848720" cy="3332160"/>
                  </a:xfrm>
                  <a:prstGeom prst="rect">
                    <a:avLst/>
                  </a:prstGeom>
                  <a:ln w="0">
                    <a:noFill/>
                  </a:ln>
                </p:spPr>
              </p:pic>
            </p:oleObj>
          </a:graphicData>
        </a:graphic>
      </p:graphicFrame>
      <p:sp>
        <p:nvSpPr>
          <p:cNvPr id="3" name="PlaceHolder 2"/>
          <p:cNvSpPr>
            <a:spLocks noGrp="1"/>
          </p:cNvSpPr>
          <p:nvPr>
            <p:ph type="sldNum" idx="2"/>
          </p:nvPr>
        </p:nvSpPr>
        <p:spPr/>
        <p:txBody>
          <a:bodyPr/>
          <a:p>
            <a:fld id="{BD1B5AC6-1C16-4C49-8634-73496D19E20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3" name=""/>
          <p:cNvGraphicFramePr/>
          <p:nvPr/>
        </p:nvGraphicFramePr>
        <p:xfrm>
          <a:off x="457200" y="2055960"/>
          <a:ext cx="8229600" cy="3736800"/>
        </p:xfrm>
        <a:graphic>
          <a:graphicData uri="http://schemas.openxmlformats.org/presentationml/2006/ole">
            <p:oleObj r:id="rId1" spid="">
              <p:embed/>
              <p:pic>
                <p:nvPicPr>
                  <p:cNvPr id="134"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06D645CA-D1FF-4E44-AE8B-D2F6D82E020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6" name=""/>
          <p:cNvGraphicFramePr/>
          <p:nvPr/>
        </p:nvGraphicFramePr>
        <p:xfrm>
          <a:off x="457200" y="2176560"/>
          <a:ext cx="8229600" cy="3494160"/>
        </p:xfrm>
        <a:graphic>
          <a:graphicData uri="http://schemas.openxmlformats.org/presentationml/2006/ole">
            <p:oleObj r:id="rId1" spid="">
              <p:embed/>
              <p:pic>
                <p:nvPicPr>
                  <p:cNvPr id="137"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5AB796C5-CD91-40DE-ABDE-E3A5C78D90C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349519AD-8C8B-46FD-A915-B56943D754A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Gülcü</cp:lastModifiedBy>
  <dcterms:modified xsi:type="dcterms:W3CDTF">2007-03-12T07:29:22Z</dcterms:modified>
  <cp:revision>152</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