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10.wmf" ContentType="image/x-wmf"/>
  <Override PartName="/ppt/media/image7.png" ContentType="image/png"/>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46FCF8-228E-4697-A0FA-A250804212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B04B712-856B-435F-8778-FC983025A5A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6A52B61-C52F-430E-A280-E93178DFAE8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8EBC9A9-1664-4CD4-B4D4-A2BC245D544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EA6E39A-87E7-4BEF-B589-D4661D70C10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E8E3C65-4F77-46D8-B9FB-A90EC1BEA38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3A0A97-449B-4583-96C6-82AE8E0BC2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69C2BA-E2BA-4BB8-B438-D91D518907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4137BF-D511-4124-834B-41C2CA386A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41C3AC-CE33-4F89-9E5A-9E6CCE818E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D2142A-BA21-4E08-B764-7946A55B21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7A99BC-0F0C-49E4-9399-9F882D6E66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F1A750E-99D2-4595-A113-F5E2D289C33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F19B33-30DB-4077-BAB0-C4ADDFE261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47C209-09C6-4119-95F4-7027D3338A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A9351B-9579-46EB-B85D-60953F2853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45A5F44-2FFE-4888-92DA-39B89578CF8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B550AF3-738A-467D-9C0D-DB8715D4E7A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D733923-45B5-4A49-83FA-2C16820B128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EE3E4C3-7931-4E42-A5B5-B1BEB2E9D09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12F6DB0-A8F7-4305-B425-9BDEA5EE777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6167EC2-D6E4-4049-85BE-5ADFF59051F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7BC847B-73C1-4099-8D14-1B65960E3C2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8B1CB6A-E568-43C4-9352-786DC371FF9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2CC12E8-957C-4C73-9BA3-0F0885B08356}"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0001EF-33E4-4703-9031-C01F3B1DDB7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B47E40-C60D-4A7C-845A-1514E931D1E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hyperlink" Target="http://jira.qos.ch/" TargetMode="External"/><Relationship Id="rId6" Type="http://schemas.openxmlformats.org/officeDocument/2006/relationships/hyperlink" Target="http://jira.qos.ch/"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FE4AE344-DC02-418B-8668-CF964AFC4B6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40" name=""/>
          <p:cNvGraphicFramePr/>
          <p:nvPr/>
        </p:nvGraphicFramePr>
        <p:xfrm>
          <a:off x="457200" y="2176560"/>
          <a:ext cx="8229600" cy="3494160"/>
        </p:xfrm>
        <a:graphic>
          <a:graphicData uri="http://schemas.openxmlformats.org/presentationml/2006/ole">
            <p:oleObj r:id="rId1" spid="">
              <p:embed/>
              <p:pic>
                <p:nvPicPr>
                  <p:cNvPr id="141"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9C7D92EB-FDE8-4916-A3C7-E9DBCA4DDCA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43"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86F248AC-DF30-4C19-893C-075D63FE10E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5"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7DD39A9-1CD4-4D4F-B12A-CE3C47F4F41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7"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E06C7064-81DF-48DD-A6FA-253C796A6F8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9"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682AB538-ABFE-4ADD-B98F-A3E90A85EE9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5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A55C100-40EE-4D1F-A8E7-16C3E6DA888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EBD96CC-0178-478E-814D-6D0EB42933A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5"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14C1F31-F1DC-4231-90A1-F0DA4A8C11F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D3706FB-EEC5-4D57-BD3A-BE830FFBFCF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9"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DD89C01-94F3-46A9-A6AC-F4C3EDF0F9F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367429DD-7E36-4495-8BF2-F4010F0466F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61"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C8656DC-0D77-4A15-978E-EAEA6545743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63"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CBC2A1DB-D977-4D7E-8D3B-E712B1B68CD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5"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56DD80A1-49DD-46E1-BFA6-59FFD86DBA2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7"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19420B4F-C135-4F2B-B4CE-0D8CC99EC70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ED730A4-1E13-4CE2-A9F3-C4395155EEA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BDC5860-7FD7-4016-A2A6-C9E6EC89B18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15CE77E-16D4-4B1B-A380-4FB2D50B531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45B2648-47E1-4EE4-B4BF-94E03506EED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7"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a:t>
            </a:r>
            <a:r>
              <a:rPr b="0" lang="en-US" sz="3200" spc="-1" strike="noStrike" u="sng">
                <a:solidFill>
                  <a:srgbClr val="666699"/>
                </a:solidFill>
                <a:uFillTx/>
                <a:latin typeface="Arial"/>
                <a:hlinkClick r:id="rId5"/>
              </a:rPr>
              <a:t>jira.qos.ch</a:t>
            </a:r>
            <a:r>
              <a:rPr b="0" lang="en-US" sz="3200" spc="-1" strike="noStrike" u="sng">
                <a:solidFill>
                  <a:srgbClr val="666699"/>
                </a:solidFill>
                <a:uFillTx/>
                <a:latin typeface="Arial"/>
                <a:hlinkClick r:id="rId6"/>
              </a:rPr>
              <a: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761BCF2-AC93-4274-8BC9-F78059F1C516}"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91A670B3-8C7F-44F6-895B-6A7419E94CD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F96D705-4FE1-4F98-9875-B79AFA3A37F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LF4J in one slide</a:t>
            </a:r>
            <a:endParaRPr b="0" lang="en-US" sz="4400" spc="-1" strike="noStrike">
              <a:solidFill>
                <a:srgbClr val="000000"/>
              </a:solidFill>
              <a:latin typeface="Arial"/>
            </a:endParaRPr>
          </a:p>
        </p:txBody>
      </p:sp>
      <p:pic>
        <p:nvPicPr>
          <p:cNvPr id="128" name="" descr=""/>
          <p:cNvPicPr/>
          <p:nvPr/>
        </p:nvPicPr>
        <p:blipFill>
          <a:blip r:embed="rId1"/>
          <a:stretch/>
        </p:blipFill>
        <p:spPr>
          <a:xfrm>
            <a:off x="3276720" y="1066680"/>
            <a:ext cx="4998960" cy="5334120"/>
          </a:xfrm>
          <a:prstGeom prst="rect">
            <a:avLst/>
          </a:prstGeom>
          <a:ln w="0">
            <a:noFill/>
          </a:ln>
        </p:spPr>
      </p:pic>
      <p:sp>
        <p:nvSpPr>
          <p:cNvPr id="3" name="PlaceHolder 2"/>
          <p:cNvSpPr>
            <a:spLocks noGrp="1"/>
          </p:cNvSpPr>
          <p:nvPr>
            <p:ph type="sldNum" idx="2"/>
          </p:nvPr>
        </p:nvSpPr>
        <p:spPr/>
        <p:txBody>
          <a:bodyPr/>
          <a:p>
            <a:fld id="{3B46F903-F2F6-4B97-AEC7-EAF182FE102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30"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jul, log4j and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7DC827D-8803-45E7-BC89-091EA542BE7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grate all jul, log4j and JCL calls (without changing a single line of code)</a:t>
            </a:r>
            <a:endParaRPr b="0" lang="en-US" sz="3200" spc="-1" strike="noStrike">
              <a:solidFill>
                <a:srgbClr val="000000"/>
              </a:solidFill>
              <a:latin typeface="Arial"/>
            </a:endParaRPr>
          </a:p>
        </p:txBody>
      </p:sp>
      <p:pic>
        <p:nvPicPr>
          <p:cNvPr id="132" name="" descr=""/>
          <p:cNvPicPr/>
          <p:nvPr/>
        </p:nvPicPr>
        <p:blipFill>
          <a:blip r:embed="rId1"/>
          <a:stretch/>
        </p:blipFill>
        <p:spPr>
          <a:xfrm>
            <a:off x="609480" y="1905120"/>
            <a:ext cx="7543800" cy="4359240"/>
          </a:xfrm>
          <a:prstGeom prst="rect">
            <a:avLst/>
          </a:prstGeom>
          <a:ln w="0">
            <a:noFill/>
          </a:ln>
        </p:spPr>
      </p:pic>
      <p:sp>
        <p:nvSpPr>
          <p:cNvPr id="3" name="PlaceHolder 2"/>
          <p:cNvSpPr>
            <a:spLocks noGrp="1"/>
          </p:cNvSpPr>
          <p:nvPr>
            <p:ph type="sldNum" idx="2"/>
          </p:nvPr>
        </p:nvSpPr>
        <p:spPr/>
        <p:txBody>
          <a:bodyPr/>
          <a:p>
            <a:fld id="{2650364F-90A4-4ADB-A4A6-9B2E8D1DC5E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533520"/>
            <a:ext cx="76960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 better, faster, smaller.</a:t>
            </a:r>
            <a:endParaRPr b="0" lang="en-US" sz="4000" spc="-1" strike="noStrike">
              <a:solidFill>
                <a:srgbClr val="000000"/>
              </a:solidFill>
              <a:latin typeface="Arial"/>
            </a:endParaRPr>
          </a:p>
        </p:txBody>
      </p:sp>
      <p:graphicFrame>
        <p:nvGraphicFramePr>
          <p:cNvPr id="134" name=""/>
          <p:cNvGraphicFramePr/>
          <p:nvPr/>
        </p:nvGraphicFramePr>
        <p:xfrm>
          <a:off x="380880" y="1905120"/>
          <a:ext cx="8293320" cy="3519360"/>
        </p:xfrm>
        <a:graphic>
          <a:graphicData uri="http://schemas.openxmlformats.org/presentationml/2006/ole">
            <p:oleObj r:id="rId1" spid="">
              <p:embed/>
              <p:pic>
                <p:nvPicPr>
                  <p:cNvPr id="135" name="" descr=""/>
                  <p:cNvPicPr/>
                  <p:nvPr/>
                </p:nvPicPr>
                <p:blipFill>
                  <a:blip r:embed="rId2"/>
                  <a:stretch/>
                </p:blipFill>
                <p:spPr>
                  <a:xfrm>
                    <a:off x="380880" y="1905120"/>
                    <a:ext cx="8293320" cy="3519360"/>
                  </a:xfrm>
                  <a:prstGeom prst="rect">
                    <a:avLst/>
                  </a:prstGeom>
                  <a:ln w="0">
                    <a:noFill/>
                  </a:ln>
                </p:spPr>
              </p:pic>
            </p:oleObj>
          </a:graphicData>
        </a:graphic>
      </p:graphicFrame>
      <p:sp>
        <p:nvSpPr>
          <p:cNvPr id="3" name="PlaceHolder 2"/>
          <p:cNvSpPr>
            <a:spLocks noGrp="1"/>
          </p:cNvSpPr>
          <p:nvPr>
            <p:ph type="sldNum" idx="2"/>
          </p:nvPr>
        </p:nvSpPr>
        <p:spPr/>
        <p:txBody>
          <a:bodyPr/>
          <a:p>
            <a:fld id="{0CAAA752-2E9E-4827-A36D-79C38895FF8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7" name=""/>
          <p:cNvGraphicFramePr/>
          <p:nvPr/>
        </p:nvGraphicFramePr>
        <p:xfrm>
          <a:off x="457200" y="2055960"/>
          <a:ext cx="8229600" cy="3736800"/>
        </p:xfrm>
        <a:graphic>
          <a:graphicData uri="http://schemas.openxmlformats.org/presentationml/2006/ole">
            <p:oleObj r:id="rId1" spid="">
              <p:embed/>
              <p:pic>
                <p:nvPicPr>
                  <p:cNvPr id="138"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E17F7E24-7EAD-4098-82EE-D4B9DBFC8EA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6-03T15:45:49Z</dcterms:modified>
  <cp:revision>163</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