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09AE-EFE2-4B47-BA00-7635F6820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BCA6D46-0DEC-4BB1-B5CE-00240F514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4293C1-9669-4AF6-A363-E3ABA3C72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424A6F-AE39-4880-90FB-5842FF3D5F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F29881-7302-4087-A2D4-D5884A8CE0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008C2C-79FB-4F42-ABA1-C33DEA41CA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594C9-CEA2-4232-A02D-00D42C872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929845-4C8E-4542-BB33-104D3CAB8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6343C-3BA2-4333-9AD3-75415FD8F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964516-9E47-4F39-BA4B-E5FD24BE9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993BF-2D7A-47E2-BD3A-24A9F8A12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807AB-A724-4F2F-AD57-9C3E54B7E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037DF9-D198-4B42-B823-A62C58E10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5A2C2-E06E-4BB7-BFF0-BE137AC489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A9BA8-0BC0-44EC-9C89-1A8FB8906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6F85DF-55EA-4222-8CBD-209515B67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15F70-4AA9-4AB1-92C6-C4500296B8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87B97B-9CB9-41DA-9264-863701B3A1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ABAB17-C3AD-4AFA-808A-4E8AA6366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E404B5-5DE9-456A-9D13-6C43FE0E6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951916-B38E-4435-89B9-69005E6F63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7D8E68E-5F58-417F-B915-5AFD1D514A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67D830-9B2D-4BA2-B943-06F024ABC5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E23EB3-7BFF-4C51-909D-20CE9782FE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8F6F7C-B047-4194-A84C-38302B29A8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BEEB-58FC-4A46-A52A-06E092E670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1B64-FFB1-4805-BC36-91CBA11B83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0"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FileAppender</a:t>
            </a:r>
            <a:endParaRPr b="0" lang="en-US" sz="44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4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tEval"&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 != null &amp;&amp;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message.contains("Howdydy-diddly-h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filter&g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s well with Jetty and Tomc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7" name=""/>
          <p:cNvGraphicFramePr/>
          <p:nvPr/>
        </p:nvGraphicFramePr>
        <p:xfrm>
          <a:off x="838080" y="2209680"/>
          <a:ext cx="7925040" cy="3364200"/>
        </p:xfrm>
        <a:graphic>
          <a:graphicData uri="http://schemas.openxmlformats.org/presentationml/2006/ole">
            <p:oleObj r:id="rId1" spid="">
              <p:embed/>
              <p:pic>
                <p:nvPicPr>
                  <p:cNvPr id="128"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0" name=""/>
          <p:cNvGraphicFramePr/>
          <p:nvPr/>
        </p:nvGraphicFramePr>
        <p:xfrm>
          <a:off x="914400" y="1905120"/>
          <a:ext cx="6935760" cy="3981240"/>
        </p:xfrm>
        <a:graphic>
          <a:graphicData uri="http://schemas.openxmlformats.org/presentationml/2006/ole">
            <p:oleObj r:id="rId1" spid="">
              <p:embed/>
              <p:pic>
                <p:nvPicPr>
                  <p:cNvPr id="131"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3" name=""/>
          <p:cNvGraphicFramePr/>
          <p:nvPr/>
        </p:nvGraphicFramePr>
        <p:xfrm>
          <a:off x="685800" y="2209680"/>
          <a:ext cx="7683480" cy="3262320"/>
        </p:xfrm>
        <a:graphic>
          <a:graphicData uri="http://schemas.openxmlformats.org/presentationml/2006/ole">
            <p:oleObj r:id="rId1" spid="">
              <p:embed/>
              <p:pic>
                <p:nvPicPr>
                  <p:cNvPr id="134" name="" descr=""/>
                  <p:cNvPicPr/>
                  <p:nvPr/>
                </p:nvPicPr>
                <p:blipFill>
                  <a:blip r:embed="rId2"/>
                  <a:stretch/>
                </p:blipFill>
                <p:spPr>
                  <a:xfrm>
                    <a:off x="685800" y="2209680"/>
                    <a:ext cx="7683480" cy="32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6"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8" name="PlaceHolder 2"/>
          <p:cNvSpPr>
            <a:spLocks noGrp="1"/>
          </p:cNvSpPr>
          <p:nvPr>
            <p:ph/>
          </p:nvPr>
        </p:nvSpPr>
        <p:spPr>
          <a:xfrm>
            <a:off x="152280" y="1295280"/>
            <a:ext cx="96012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6T22:13:43Z</dcterms:modified>
  <cp:revision>116</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