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F38C-7BF5-40E9-89A7-0AE351A44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30A31E-E383-45CD-AC19-9B9F07633B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489C93-6EB4-47DC-B0AC-4AB6226CFA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FF2403D-C1A8-4B25-93E4-3238D7410D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BDA516-01D5-4C11-B041-050A1CC250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89AEF1-11F2-44D9-8FF6-0BCE159307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71F78-3493-44F2-8B76-CB03DA586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FF5F8-B22E-4D28-863D-04568395D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C5C37-AA7D-49AE-BDC8-AE449A919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6D0CE-8E19-468C-8536-425C1790F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0C096-BC69-4D83-8401-1D8B2C43C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1FDBF-C508-4B7A-8152-4AA34DBC8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E67F45-2622-440D-91F5-02ECDEDB04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49F9B-D54B-4672-B76D-9C7436D3D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C1304-674D-4852-925C-BD7693B9B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C12E0-CC62-427D-B792-3A34C2244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7E7E8D-E6D4-4E42-A747-B7CE9E3E1B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7688E8-0F36-4DB5-AD67-E412D31EA2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34C277-C030-41A2-8B42-3ABB925C94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BB244B-27E6-49D2-A640-CD232AF0BC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EEE5BE-C1F9-4059-BD16-7502B52472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DBC326-B54B-40D9-A36D-549B21CF8F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AEE1BD-22FB-462D-8F78-4B913862DA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7C9B39-6ACE-4EFA-B954-4DD601FC9D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787CD9-8F8D-490C-AD40-C872DF986AA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B166-4687-4B7A-A8EA-5A31020771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D7CD-2D95-43A7-88C0-12A5B70FAA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0"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FileAppender</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4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tEval"&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 != null &amp;&amp;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contains("Howdydy-diddly-h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gt;</a:t>
            </a:r>
            <a:r>
              <a:rPr b="0" lang="fr-F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s well with Jetty and Tomc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7" name=""/>
          <p:cNvGraphicFramePr/>
          <p:nvPr/>
        </p:nvGraphicFramePr>
        <p:xfrm>
          <a:off x="838080" y="2209680"/>
          <a:ext cx="7925040" cy="3364200"/>
        </p:xfrm>
        <a:graphic>
          <a:graphicData uri="http://schemas.openxmlformats.org/presentationml/2006/ole">
            <p:oleObj r:id="rId1" spid="">
              <p:embed/>
              <p:pic>
                <p:nvPicPr>
                  <p:cNvPr id="128"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0" name=""/>
          <p:cNvGraphicFramePr/>
          <p:nvPr/>
        </p:nvGraphicFramePr>
        <p:xfrm>
          <a:off x="914400" y="1905120"/>
          <a:ext cx="6935760" cy="3981240"/>
        </p:xfrm>
        <a:graphic>
          <a:graphicData uri="http://schemas.openxmlformats.org/presentationml/2006/ole">
            <p:oleObj r:id="rId1" spid="">
              <p:embed/>
              <p:pic>
                <p:nvPicPr>
                  <p:cNvPr id="131"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3" name=""/>
          <p:cNvGraphicFramePr/>
          <p:nvPr/>
        </p:nvGraphicFramePr>
        <p:xfrm>
          <a:off x="685800" y="2209680"/>
          <a:ext cx="7683480" cy="3262320"/>
        </p:xfrm>
        <a:graphic>
          <a:graphicData uri="http://schemas.openxmlformats.org/presentationml/2006/ole">
            <p:oleObj r:id="rId1" spid="">
              <p:embed/>
              <p:pic>
                <p:nvPicPr>
                  <p:cNvPr id="134" name="" descr=""/>
                  <p:cNvPicPr/>
                  <p:nvPr/>
                </p:nvPicPr>
                <p:blipFill>
                  <a:blip r:embed="rId2"/>
                  <a:stretch/>
                </p:blipFill>
                <p:spPr>
                  <a:xfrm>
                    <a:off x="685800" y="2209680"/>
                    <a:ext cx="7683480" cy="32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6"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8" name="PlaceHolder 2"/>
          <p:cNvSpPr>
            <a:spLocks noGrp="1"/>
          </p:cNvSpPr>
          <p:nvPr>
            <p:ph/>
          </p:nvPr>
        </p:nvSpPr>
        <p:spPr>
          <a:xfrm>
            <a:off x="152280" y="1295280"/>
            <a:ext cx="96012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6T22:13:43Z</dcterms:modified>
  <cp:revision>116</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