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BD2C2-6E26-4F8C-B1F1-C8BAFA911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16873D-F1D6-4242-A840-75B638CF93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92A8E8-D867-488A-8DB6-99091B4029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1084C4-B7B2-4C2F-9BDE-8565896A3F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81DDD5-5D7A-46FF-9267-6F787D9F5F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117FD1-BD9F-4866-8118-E37C025B7B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160CF-75A3-44A9-9D03-61DF6C478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64B14-D7BB-46EA-A99C-21D65FA7C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7684D-9B18-4F38-8C29-2AE1E32E3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B4755-9222-48B0-813B-CB9B4A18A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0FFD1-F276-49A2-8D95-6535A5883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BCF33-0EBC-4672-9AEE-6283FAE80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BDC37A-16A7-49FD-B90A-B8705207A1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6CD3B-FC12-4393-8629-A9EC0B155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D04F6-3957-48F5-8C60-60C185F7C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CEB74-7BAA-4D06-8E67-784CAB0C1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0E8387-36EF-4C36-8EDA-09C7174E2A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126CE2-A710-4EEF-99C8-72A68CFCF6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5D28D8-C504-49B0-8D86-3C7C01A5EE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A476EA-DFDF-4658-BA88-D2AE244452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A2EBA0-C22B-4789-9162-6B96FDFF33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C08C46-2160-47F7-B77A-5CA4A274ED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80AA5D-4E6E-45FB-8FB2-D3C9B36B63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FC4D42-0F2E-4458-8998-E09693FF2E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7460DE-9E0B-4D29-B288-41B477FAD85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FAFE-7FCC-4834-9227-EDD1A0FE16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5CBD-2A12-45B1-9AC8-8D1F04D6D9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228600" y="1980720"/>
            <a:ext cx="86868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class="c.q.l.c.turbo.UserTurboFilt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User&gt;sebastien&lt;/Us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OnMatch&gt;ACCEPT&lt;/OnMatch&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MDCKey&gt;username&lt;/MDCKey&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g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6-11-29T07:49:35Z</dcterms:modified>
  <cp:revision>13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