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F58BBA-7EFD-41EC-A480-ED6B3E9CAFB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A61228A-09E8-4937-956A-04764FFEF10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E386B31-1A77-4EFB-AB6A-20B9B545B7A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CD0A5D0-CA36-4D46-8024-99C08F03705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9FA599E-7CFA-4C0A-B9FD-4ACB864DB4C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DAE3177-7D4D-4C0E-B745-45117D3739E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8D18309-16DE-4F47-A5E8-ACFB9A5403F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1964858-B71A-4CCF-B5F0-22E8729E359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67BDFBF-F43F-4DB4-86C7-BE40B132522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6466DE2-201F-41F3-BA35-6667AE82A4E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C0FFCB7-C6E1-4E11-BB9C-877D1F58803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905FCE1-3644-4088-AC82-9B42F48F2C6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6BA13F7-056E-4A1D-87D6-4A0385E6046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1256A92-1580-4D90-939F-51D8E4EE552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1277288-4142-4103-9613-164B0C8788B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65E6D45-F914-4093-BA3E-D03783DDCDD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8E5CA08-D820-4B6E-BA71-661A733F5B2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6609E93-587E-4EA9-A40A-69C93383BD7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DC870A-9D57-4EEF-AC0C-7870DC3F85E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55F04F4-6035-45B9-A871-1E4DA6A953C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EF16320-43F1-4941-A766-C1EA4270665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9D84521-5830-49FD-98CA-C4AFA0A8534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04C1A1A-1FB5-4646-A49B-576C124D6B4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ED1E261-77F0-4E52-8173-20870AC53D8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6C31EC8-BA51-4990-A2C3-A7BA7AF6B7F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46A8FC-3AA1-48D0-AFB9-3423A6BE993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C44D4E-C900-4792-AE68-1C4CC2D43E4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5851CF8-44D6-41C2-9897-70E044D9BE1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5426B6-C630-4A67-BED7-AE7645CF8FD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06195E-7F96-4429-A63B-C514C8EFBCE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38"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1AE60B-6E90-40B8-B7F8-059766C1A1B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95B7AA-4B0C-46E6-AE66-0A386A72B66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1B120E-2077-4C4C-ACD6-1CFB43EEAE6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7D0844-0A61-46A7-B041-38DB1F22CF9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161407-510E-4DB1-BEF0-12B4840CF12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FEB562-F2BF-4876-9F51-211B27B904C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1AF9F91-E3F7-4B62-AEC4-BE50CA42D9E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7FC6FA-40F6-4507-BEBB-7F4938961CB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32767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A0D13B8-9304-405E-BEB6-1595290A1BA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A138DC-9820-4BCD-A0ED-522F779109B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D07FE6-9C4C-40B8-9604-F7B5DE29770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58"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BE1FF00-A143-4623-BE61-063BC72FCB6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0"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47E8679-AF5A-42AE-A2B1-08D9D84A812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 the background</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 in outgoing emai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B6D01A-5E5C-4A10-9EA4-9F18909A264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6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successor of log4j.</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625054-1C92-451A-81F9-BE76DEECE06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66"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5ADCB5-C2DF-43E6-8D06-233C851A6957}"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9106E9F-AFE3-444B-82B4-410D5E482CB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C1EF6A-DBDA-452C-9E14-5CF833906E7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0FB4CC-F7F8-4B54-8EEE-5137F041E76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D6B454-4E00-4638-8940-943A3BA5739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F7BC6D-6574-488A-B3AF-AE51C9EE1A8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3788C1-EFBC-4284-941A-D4517BD40F2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83E015-CC74-41C3-870E-360FA7D6E8D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9-17T16:46:58Z</dcterms:modified>
  <cp:revision>168</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