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6B36-B2D6-49AC-A740-D3D62CD0A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A7FBC-98AD-4D48-B154-6974CFB2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6532-9E7E-4F8D-98B4-62DBDB89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F3B91-B394-487A-B1C9-5CC8A76D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90D69-9960-4057-A632-C87865FB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419B-BB96-45EE-9E13-2B79F726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E244-18F9-45DA-BBD2-EBB5E6CD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6931-B627-4309-BA3D-90FACC9E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59C0-4CE1-4BFB-9A8C-E49AAA7F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5F4D-A3F3-45EF-B06E-83D4773F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1F98-6BD8-400D-A1FC-A59C1F00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7066-AA5E-42DC-B6BC-D685A73C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A0469-3653-4339-8EC9-F269F782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C240-9B5B-41E9-B3BD-73B24794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9030-42A4-4D7B-B79E-C6D1265C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7D65-E706-4137-8C49-BE7D6A3B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2655-1D27-4AF5-BD28-5C067AB7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09C9-8970-463E-BBD9-19B2523D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DC58-D767-41DE-8C80-D9395B4C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7B65-27AA-441E-B6D8-64D4E9DF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26107-C8B6-49FF-ADF1-D215842B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3CFC1-C5DA-4CF1-B2C7-3DAB6007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B19F3-675D-4AED-9874-425E1B01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16945-28EC-4192-9F55-DB9413D7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16D6-E84A-471E-88F7-2B3B1B65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7BF0-4A58-4E09-A183-85C32B13BE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(DRAFT)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back ~ log4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zip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 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rate all log4j and JCL calls to logback without changing a single line of co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if you don't like logback and prefer JUL, you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ould prefer to stick with log4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</cp:lastModifiedBy>
  <dcterms:modified xsi:type="dcterms:W3CDTF">2006-10-21T16:25:34Z</dcterms:modified>
  <cp:revision>86</cp:revision>
  <dc:subject/>
  <dc:title>Slide 1</dc:title>
</cp:coreProperties>
</file>