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A872-0145-4852-9E3E-25CBC05EE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BAE3-7C68-4D54-85E4-AA39A812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0BCB-8553-42DF-B5CB-E8E02F6B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F4B1E-7CE7-48EC-9E19-0B4A8E1A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E0C1-82A3-402B-83B7-2C730D3E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1CCC-3919-4959-A256-DC83ECCD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F586-D15B-4E69-AB41-80C13792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7651-E526-4FD9-BB2F-41202E97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7F74-8000-439E-A3B2-9ABB444C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BADE-3C12-4F6A-8682-920B8FA1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8ADB-9B99-4BDD-A92F-B32BA4CC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48F7-4F2D-4457-AF29-38D3A68D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308F-991F-47A8-9BBC-8F630E36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6A7B-D285-4EFA-BB83-117A87E8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3481-D1B1-42D2-9F9A-15E88ADB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F260-B5B2-4745-A18B-AB7F3AAB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5456-5890-49DE-AB93-CB1ECCEF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D9C3-A4B1-400B-BBD9-31EBDD2E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38B9-C3EE-4622-9561-DFC1D890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22FD7-D7D1-41EB-A6C8-64C690E2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5DDC-12F7-4701-B5A7-B5C623C7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5554-48E4-435A-8BE9-139D5EC6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6564-73E7-435F-AF4A-BB4BBE34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461F-7FCA-4B5A-B1B4-3EE35A46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AF2B-1B4C-4960-A562-CE7BB405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B782-9447-48DC-93EE-5C9F501EF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(DRAFT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back ~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zip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 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e all log4j and JCL calls to logback without changing a single line of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if you don't like logback and prefer JUL, you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prefer to stick with log4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</cp:lastModifiedBy>
  <dcterms:modified xsi:type="dcterms:W3CDTF">2006-10-21T16:25:34Z</dcterms:modified>
  <cp:revision>86</cp:revision>
  <dc:subject/>
  <dc:title>Slide 1</dc:title>
</cp:coreProperties>
</file>