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70DFD-4686-4532-AE2F-29F5369036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D6F4E2B-BFD0-4676-8C24-06D47D2FA26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4E4C8A7-D0EC-45F2-8185-781C573515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F070FC9-CCEF-4A14-9624-5F0C1766EAF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30F4D9A-2CD7-49CF-B860-1BB352213D0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89D44B-38D4-4E99-901B-5AB21AFDD8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244951-D65D-477A-9214-99BE87344F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FB71B5-1F4A-4379-A9F0-C3C4907813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5D96BD-D001-465F-BAE2-CEE61023C4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50F236-D9EA-40F5-925B-4257C454CF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259E21-3850-4EEE-99E5-0C0451619A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0E2178-6D7B-4591-96B2-39ED9CDA41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597DD36-D0C3-4D41-9395-88517D85E65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BA21ED-A84C-467D-B308-5B1A0BD4BD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AD4F82-53E8-44B1-9A48-3290DBB314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D5E55F-0DC7-44C7-818C-E9CFB32891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AF891B-BC3A-46B4-A3DC-DE827BC73B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9EF156-C63A-447D-BCF1-278CB2751C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FAD7027-1DFC-4859-AAFB-CAE66FF3316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A2E95D8-EF58-4763-94EA-A093BF6B00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7D15F9D-652A-4964-93C1-8BC2E1BC776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F56D124-461A-4452-8FB6-58B61A705DD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F0C996E-097C-44A9-BF1A-CF522028E5D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FE47B4D-5750-4191-8DAC-B64DB33D78A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4EF2522-AE6C-4938-81CA-B184E8D959B2}"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1D5C8-52D0-4985-8A92-E4B0467B290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2659D-D2F1-41DF-A015-A9D1DA363E7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A8D8129F-06A1-454C-B031-5091930A2B3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FD02595-A9C9-475E-828D-36B89AA65E2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841A628-94B4-4B58-8FCF-06839556166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18988FC-0261-45E2-AC29-21F454C2607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8B66651-8D8B-4284-9BBF-BF829C4E407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8D7A179-50D0-456B-970B-70DC1A1D65C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302E2C1-DC0A-44A7-8680-5891667B658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914141C-6E74-4B06-9067-9BB39588CB1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1A7649D-1E71-4675-825F-07E51A72A2A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472E19A-BF82-4C6F-A113-F41215F75D2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3578121-67C2-4C3B-9964-D20C3EEBF53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DE2A9AF6-32A8-4F82-89A4-29301187AEC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EB32FC1-9081-4A1F-AC90-2350C0B193F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7A77CE9-C971-4BAC-BEC0-CC85686456E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F73ED2E-963F-4EE0-ABD4-036F916C610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BF82F62-0385-4466-8D9F-4CB6A077949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231015D-2551-413D-AADE-1512617EA6D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D4C975E-D612-4E50-9BD8-7299D29F92B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7B5BC28-59F0-44D5-AB31-6555A5CF8514}"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45BF5687-22BF-4C0E-9758-C1B22F0BFB0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E67CAA5-58D3-4769-9CF8-BB23BF3A385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04F73BE-709E-4BB0-8E34-A0DF751F1E6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838080" y="2209680"/>
          <a:ext cx="7925040" cy="3364200"/>
        </p:xfrm>
        <a:graphic>
          <a:graphicData uri="http://schemas.openxmlformats.org/presentationml/2006/ole">
            <p:oleObj r:id="rId1" spid="">
              <p:embed/>
              <p:pic>
                <p:nvPicPr>
                  <p:cNvPr id="131" name="" descr=""/>
                  <p:cNvPicPr/>
                  <p:nvPr/>
                </p:nvPicPr>
                <p:blipFill>
                  <a:blip r:embed="rId2"/>
                  <a:stretch/>
                </p:blipFill>
                <p:spPr>
                  <a:xfrm>
                    <a:off x="838080" y="2209680"/>
                    <a:ext cx="7925040" cy="3364200"/>
                  </a:xfrm>
                  <a:prstGeom prst="rect">
                    <a:avLst/>
                  </a:prstGeom>
                  <a:ln w="0">
                    <a:noFill/>
                  </a:ln>
                </p:spPr>
              </p:pic>
            </p:oleObj>
          </a:graphicData>
        </a:graphic>
      </p:graphicFrame>
      <p:sp>
        <p:nvSpPr>
          <p:cNvPr id="3" name="PlaceHolder 2"/>
          <p:cNvSpPr>
            <a:spLocks noGrp="1"/>
          </p:cNvSpPr>
          <p:nvPr>
            <p:ph type="sldNum" idx="2"/>
          </p:nvPr>
        </p:nvSpPr>
        <p:spPr/>
        <p:txBody>
          <a:bodyPr/>
          <a:p>
            <a:fld id="{BEC36D52-562C-4A9B-A211-82F7FEF6C54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914400" y="1905120"/>
          <a:ext cx="6935760" cy="3981240"/>
        </p:xfrm>
        <a:graphic>
          <a:graphicData uri="http://schemas.openxmlformats.org/presentationml/2006/ole">
            <p:oleObj r:id="rId1" spid="">
              <p:embed/>
              <p:pic>
                <p:nvPicPr>
                  <p:cNvPr id="134" name="" descr=""/>
                  <p:cNvPicPr/>
                  <p:nvPr/>
                </p:nvPicPr>
                <p:blipFill>
                  <a:blip r:embed="rId2"/>
                  <a:stretch/>
                </p:blipFill>
                <p:spPr>
                  <a:xfrm>
                    <a:off x="914400" y="1905120"/>
                    <a:ext cx="6935760" cy="3981240"/>
                  </a:xfrm>
                  <a:prstGeom prst="rect">
                    <a:avLst/>
                  </a:prstGeom>
                  <a:ln w="0">
                    <a:noFill/>
                  </a:ln>
                </p:spPr>
              </p:pic>
            </p:oleObj>
          </a:graphicData>
        </a:graphic>
      </p:graphicFrame>
      <p:sp>
        <p:nvSpPr>
          <p:cNvPr id="3" name="PlaceHolder 2"/>
          <p:cNvSpPr>
            <a:spLocks noGrp="1"/>
          </p:cNvSpPr>
          <p:nvPr>
            <p:ph type="sldNum" idx="2"/>
          </p:nvPr>
        </p:nvSpPr>
        <p:spPr/>
        <p:txBody>
          <a:bodyPr/>
          <a:p>
            <a:fld id="{B4BFCDBB-C2B1-4CB6-B486-F33A702C249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317A589D-4B8E-443E-BC3C-EE5E8E86BB9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8D1DE16-5A98-4100-921E-D706DE1E680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2-02T17:15:16Z</dcterms:modified>
  <cp:revision>145</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