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43BAA-7918-49A1-8B3B-517EEDA73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7AEEA-E501-4A41-AC29-71D77C502A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9CF8759-A796-4AAE-B0BC-49A50C496B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DF8E491-3649-4707-AE3A-FB6FD0CDACE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88D3D17-36CD-47EC-ABCD-DF4703FAD46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57F7F2-BA72-40C7-BEF5-989CC857FE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CE9BB5D-55FB-4B0F-B232-6AE5D9D5E1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D54763-E543-40AF-A94B-D9D63B13C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F9C1BC-8FC5-4FCF-B0A7-C84F53C8AA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1944B2-8F34-4A3F-AB6F-9ECAB4224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BDAAD00-A696-4079-BF61-14FA1D40B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576C53-DA54-4F16-8FE0-D8A4F32E1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FB6259-AC30-42F1-978D-F4CCFC17B6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CF1F0C-D573-49E6-BF32-32643D57A6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0E523-3727-4968-ABF0-A2A962B4E0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23EEF7-997C-4640-A201-B969CBD413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16855A-27D4-4891-82EA-791EFDF387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E9370D-D687-4F2A-BF7A-0351B79D03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76A3B-A64C-45C3-9E6D-F90A4C8399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2A0A92-0EB8-4A56-A7E6-17ABDE4CAC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867403-6703-4389-ACD4-75E81BAE1A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07FCAA1-5AA5-4318-B144-FFAAD7E25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0F7B4A-D1E3-4E31-8006-4EADE82D06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255AF8-F14B-4541-A20C-C9919F4710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A5EA41-E5F6-43EA-8763-036E377BD02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C7561-4A29-46AC-A907-E2CEA005B26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E106E-B4E1-421F-9AEB-7B4832B9890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755393-9806-435D-8CAE-E026E11EF7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1FE77-9658-4E93-9845-F005491A77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DD1A3-C3EE-48C4-B680-DCC5411120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8"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39BACB-DBF5-43DA-81F6-F5540DF26C8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22902E-089C-4C3B-8733-8E36E8E1DE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6DF21D-AA60-4743-B816-BCAE99AD38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3228D-7323-4D4D-B5B5-DF0BFE9D68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77301C-87C7-41E7-B4AC-6337791BA1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1C8206-E104-4C50-9726-5D9BAB54DD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0456C-3F97-4D38-8E85-C89A5EA2F8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77304-3A56-4C75-B700-D4D46DBED37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32767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089B13-AA62-4E27-8F66-5395CC5AF3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5045D-5636-4D27-AC8D-2C7B1642CF1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07CFB1-3EDD-4474-B81C-4EF2450814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58"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8C71DF-8E9D-4088-BA50-3AAFAF8061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0"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9A5B50-9DF1-4383-8F0F-30C3E1317F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8229600" cy="46483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 the backgroun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Appender and RollingFileAppender allow for the same log file to be written to by instances located in different JVM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 in outgoing email</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51AD1-6CCE-401D-9DBE-A7624C8204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6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successor of log4j.</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37709-8646-4436-8F03-E770B75B8F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66"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5A174-9CC7-4DF9-ABB4-14470A242D0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EB373EB-4696-45A1-80F5-DE4E46789DB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3117F-5107-4D59-B53F-768304BEBA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80E6C-2040-4175-8C7A-7C16306930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775E4-F6F3-4C30-A9DC-F8B866EA1A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8A5F5E-942D-4DF0-B035-B1E41774B83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D7E25F-85B7-4F42-8D53-277451A1C99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CBD8C2-A9C4-426C-89B4-52F7646C88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8-12-27T13:21:20Z</dcterms:modified>
  <cp:revision>17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