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FCCC8A-16FA-49AE-8D0F-44642312312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slf4j bridge (log4j-over-slf4j.jar), and the jakarta commons logging (JCL) to SLF4J  bridge (jcl104-over-slf4j.jar), users who currently log  through the log4j or JCL APIs can keep their existing log  statements (without change).  The bridge will redirect the log4j calls to slf4j which will in turn delegate to another logging system such as  logback or  java.util.logging (JU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CL? Peace of cake! Just place slf4j-jcl.jar in you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class path. To bridge legacy log4j calls to SLF4J,  add log4j-over-slf4j.jar to your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log4j-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76F9DC0-6691-416C-848C-8CCAC286FA9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554C9FF-9FC4-4CA5-A18F-20F6C7EB425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2C2C17F-BF98-43FA-A811-D9122521841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48CBCA2-5A95-4208-83A0-C3E0B2D9428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E4EAB19-5044-45F1-ABD1-7C58D969E60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12793A-4A30-43BD-B294-23FBD0B805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A41930-0875-427C-BB7D-F912E64BD1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ECC8C1-231C-4E35-BAEE-3364382ABC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055B01-5EB7-4A27-A1D9-66978A6A6C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6ABB20-A61F-4D5E-AD44-98F7B3A1CE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B47573-C819-445B-9398-3C609D1C7A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5423B46-EA52-45C1-92EE-2257A77B0EF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678249-3223-40E9-A3DA-210785C8BD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7BB797-96FC-4DCA-B3BA-B9266B07C1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50259C-725B-43E8-A1D7-FEF9527EB9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DE6165C-2DFE-493C-B273-91075E88634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39A456C-BE11-458E-9776-1D30D0FB446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03B4883-D32B-4E11-8A23-D9DFA1D9DF7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853DDD7-76E3-42BD-8B7F-DFC3EE352D9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C000ABA-36A9-4A69-B5FC-C40BA56DA33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3F46196-80AA-4E74-9EBA-4D567750908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34626FF-A794-471C-84DA-AB7DDD73A1A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115F1EB-1E76-43BA-B001-7691BAA78D6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02B3DE3-ACF0-4883-9DA4-A58E4C7B18F5}"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F2A911-7ACD-4DAF-BEED-83E6FBABF67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E273B6-8843-4838-819E-CEBDF7F775F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irc.freenode.net/#logback."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8DA411F6-4537-4A74-A310-0C027AC4426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CAAE7B0-032E-4FD7-B542-98C6C968789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35D4DC65-B861-4FFA-B706-78259A57315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C1614B1F-0949-48A1-A73B-7CFC4D34B8E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E120172-DE05-4989-8F5F-3B64D907115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2672550-8790-4866-8C3A-240539BC72C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2556A39-39F8-4491-95E6-1697BAD0550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E3FD978-946D-4797-8148-5D1A0084507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28DF66F-C36C-4B43-B751-4BBBB531409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403FF59-4378-40F0-AFAF-22E8415E42A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922A74FB-8DA1-4F4B-90CC-F2DF1F04C8D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9C7A663C-A6A2-475E-92BD-51540139D62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1F5AD04A-AFD7-4330-BC44-368A329C59C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F8DE377C-060F-4067-8401-43222BB3FBA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79A94E1-D5A9-421F-A317-8C1E81DB5B6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C67A5F8-182C-47E3-9768-8CF721A4130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481B8CF-0EFC-4B7D-9FAA-0C0603AEF74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B372326-5D46-4AB2-B03E-101994E325B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bugzill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a:t>
            </a:r>
            <a:r>
              <a:rPr b="0" lang="en-US" sz="3200" spc="-1" strike="noStrike" u="sng">
                <a:solidFill>
                  <a:srgbClr val="666699"/>
                </a:solidFill>
                <a:uFillTx/>
                <a:latin typeface="Arial"/>
                <a:hlinkClick r:id="rId5"/>
              </a:rPr>
              <a:t>irc.freenode.net#logback</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F4524B2-C668-4330-8561-D26F108B2A7D}"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7EF66D1D-7C44-4D15-88C1-971AF9DE102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048ACFB-DB6C-44A9-8702-ED3F94A4CC2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8"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85CC262-0A00-4A9C-8E63-54468B01CE2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30" name=""/>
          <p:cNvGraphicFramePr/>
          <p:nvPr/>
        </p:nvGraphicFramePr>
        <p:xfrm>
          <a:off x="838080" y="2209680"/>
          <a:ext cx="7925040" cy="3364200"/>
        </p:xfrm>
        <a:graphic>
          <a:graphicData uri="http://schemas.openxmlformats.org/presentationml/2006/ole">
            <p:oleObj r:id="rId1" spid="">
              <p:embed/>
              <p:pic>
                <p:nvPicPr>
                  <p:cNvPr id="131" name="" descr=""/>
                  <p:cNvPicPr/>
                  <p:nvPr/>
                </p:nvPicPr>
                <p:blipFill>
                  <a:blip r:embed="rId2"/>
                  <a:stretch/>
                </p:blipFill>
                <p:spPr>
                  <a:xfrm>
                    <a:off x="838080" y="2209680"/>
                    <a:ext cx="7925040" cy="3364200"/>
                  </a:xfrm>
                  <a:prstGeom prst="rect">
                    <a:avLst/>
                  </a:prstGeom>
                  <a:ln w="0">
                    <a:noFill/>
                  </a:ln>
                </p:spPr>
              </p:pic>
            </p:oleObj>
          </a:graphicData>
        </a:graphic>
      </p:graphicFrame>
      <p:sp>
        <p:nvSpPr>
          <p:cNvPr id="3" name="PlaceHolder 2"/>
          <p:cNvSpPr>
            <a:spLocks noGrp="1"/>
          </p:cNvSpPr>
          <p:nvPr>
            <p:ph type="sldNum" idx="2"/>
          </p:nvPr>
        </p:nvSpPr>
        <p:spPr/>
        <p:txBody>
          <a:bodyPr/>
          <a:p>
            <a:fld id="{23D5DE45-F51E-4574-AE56-FAAADDDEA44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3" name=""/>
          <p:cNvGraphicFramePr/>
          <p:nvPr/>
        </p:nvGraphicFramePr>
        <p:xfrm>
          <a:off x="914400" y="1905120"/>
          <a:ext cx="6935760" cy="3981240"/>
        </p:xfrm>
        <a:graphic>
          <a:graphicData uri="http://schemas.openxmlformats.org/presentationml/2006/ole">
            <p:oleObj r:id="rId1" spid="">
              <p:embed/>
              <p:pic>
                <p:nvPicPr>
                  <p:cNvPr id="134" name="" descr=""/>
                  <p:cNvPicPr/>
                  <p:nvPr/>
                </p:nvPicPr>
                <p:blipFill>
                  <a:blip r:embed="rId2"/>
                  <a:stretch/>
                </p:blipFill>
                <p:spPr>
                  <a:xfrm>
                    <a:off x="914400" y="1905120"/>
                    <a:ext cx="6935760" cy="3981240"/>
                  </a:xfrm>
                  <a:prstGeom prst="rect">
                    <a:avLst/>
                  </a:prstGeom>
                  <a:ln w="0">
                    <a:noFill/>
                  </a:ln>
                </p:spPr>
              </p:pic>
            </p:oleObj>
          </a:graphicData>
        </a:graphic>
      </p:graphicFrame>
      <p:sp>
        <p:nvSpPr>
          <p:cNvPr id="3" name="PlaceHolder 2"/>
          <p:cNvSpPr>
            <a:spLocks noGrp="1"/>
          </p:cNvSpPr>
          <p:nvPr>
            <p:ph type="sldNum" idx="2"/>
          </p:nvPr>
        </p:nvSpPr>
        <p:spPr/>
        <p:txBody>
          <a:bodyPr/>
          <a:p>
            <a:fld id="{726CF317-B5E8-4C3E-ABC6-6488E90D6BF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6" name=""/>
          <p:cNvGraphicFramePr/>
          <p:nvPr/>
        </p:nvGraphicFramePr>
        <p:xfrm>
          <a:off x="457200" y="2176560"/>
          <a:ext cx="8229600" cy="3494160"/>
        </p:xfrm>
        <a:graphic>
          <a:graphicData uri="http://schemas.openxmlformats.org/presentationml/2006/ole">
            <p:oleObj r:id="rId1" spid="">
              <p:embed/>
              <p:pic>
                <p:nvPicPr>
                  <p:cNvPr id="137"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5DAB306D-3FF9-46EB-B261-277BAA62195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C627E1FD-B339-4773-AC20-61058339C78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6-12-02T17:15:16Z</dcterms:modified>
  <cp:revision>145</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