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93B32-2957-40DB-908C-2F3C97E21A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6745513-C26F-4921-ABFB-B2272DDB14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275FF37-F8BB-4F43-9518-15E20DB986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C7E853B-1C52-40D9-843B-52D1CF0690D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09ADA5D-D20D-402B-BE26-52D7F49FD7F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CBF46F-B67C-4466-9CBD-FC9758006B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AC8B1D-44A4-41CB-A2B2-A331B4DF81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A61105-E6A3-4B14-BFBF-C39EA46619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8CC5B2-3868-4356-A0FA-C3D60ECF1B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44F175-0E87-4F70-9227-EB2BE87A90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A8E2A5-B0CA-476C-8F5E-4CF958E156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852A9A-9A25-4594-8219-6FA7A89F10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4ADAE8B-729C-4A6C-AAEA-54684CED5A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202BAB-C31C-446F-A35A-E5CD9CAB59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25A3BF-7A9D-424B-AE1C-E6EACCA170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57BAD4-800A-4B55-A1A3-0555390301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12B9B4-1509-4961-96AB-A8F57C3CA4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F458C0-310C-4529-8434-CDE0B5D03F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E23E6E3-39D5-474A-9364-46FBC8B156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3B2C084-24B9-4225-B4BC-565DAA0D8A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6E318E0-EBF3-44DA-B14E-96434DF385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5B83A66-0402-45B2-BD37-9D79FBC1CA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5278A88-6F62-4F9B-9AC2-A6AD66428A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E19A800-9A4B-4C66-8E81-4291B6A57C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BE75D15-98FA-4541-BA39-7962A8A8650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C867F-E65B-403B-927B-08F06080CDA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8E152-8AA7-4370-8FFB-5C554539083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bugzilla.qos.ch/" TargetMode="External"/><Relationship Id="rId6" Type="http://schemas.openxmlformats.org/officeDocument/2006/relationships/hyperlink" Target="http://bugzill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3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1920" y="1447560"/>
            <a:ext cx="85345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ctiveFileName&gt;access.log"&lt;/ActiveFileNam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ccess.</a:t>
            </a:r>
            <a:r>
              <a:rPr b="1" lang="en-US" sz="1800" spc="-1" strike="noStrike">
                <a:solidFill>
                  <a:srgbClr val="000000"/>
                </a:solidFill>
                <a:latin typeface="Courier New"/>
              </a:rPr>
              <a:t>%d</a:t>
            </a:r>
            <a:r>
              <a:rPr b="0" lang="en-US" sz="1800" spc="-1" strike="noStrike">
                <a:solidFill>
                  <a:srgbClr val="000000"/>
                </a:solidFill>
                <a:latin typeface="Courier New"/>
              </a:rPr>
              <a:t>.log.</a:t>
            </a:r>
            <a:r>
              <a:rPr b="1" lang="en-US" sz="1800" spc="-1" strike="noStrike">
                <a:solidFill>
                  <a:srgbClr val="000000"/>
                </a:solidFill>
                <a:latin typeface="Courier New"/>
              </a:rPr>
              <a:t>zip</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ref ref="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ead of</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7200" y="1676160"/>
            <a:ext cx="822960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bugzill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6"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28" name=""/>
          <p:cNvGraphicFramePr/>
          <p:nvPr/>
        </p:nvGraphicFramePr>
        <p:xfrm>
          <a:off x="838080" y="2209680"/>
          <a:ext cx="7925040" cy="3364200"/>
        </p:xfrm>
        <a:graphic>
          <a:graphicData uri="http://schemas.openxmlformats.org/presentationml/2006/ole">
            <p:oleObj r:id="rId1" spid="">
              <p:embed/>
              <p:pic>
                <p:nvPicPr>
                  <p:cNvPr id="129" name="" descr=""/>
                  <p:cNvPicPr/>
                  <p:nvPr/>
                </p:nvPicPr>
                <p:blipFill>
                  <a:blip r:embed="rId2"/>
                  <a:stretch/>
                </p:blipFill>
                <p:spPr>
                  <a:xfrm>
                    <a:off x="838080" y="2209680"/>
                    <a:ext cx="7925040" cy="336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1" name=""/>
          <p:cNvGraphicFramePr/>
          <p:nvPr/>
        </p:nvGraphicFramePr>
        <p:xfrm>
          <a:off x="914400" y="1905120"/>
          <a:ext cx="6935760" cy="3981240"/>
        </p:xfrm>
        <a:graphic>
          <a:graphicData uri="http://schemas.openxmlformats.org/presentationml/2006/ole">
            <p:oleObj r:id="rId1" spid="">
              <p:embed/>
              <p:pic>
                <p:nvPicPr>
                  <p:cNvPr id="132" name="" descr=""/>
                  <p:cNvPicPr/>
                  <p:nvPr/>
                </p:nvPicPr>
                <p:blipFill>
                  <a:blip r:embed="rId2"/>
                  <a:stretch/>
                </p:blipFill>
                <p:spPr>
                  <a:xfrm>
                    <a:off x="914400" y="1905120"/>
                    <a:ext cx="6935760" cy="398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4" name=""/>
          <p:cNvGraphicFramePr/>
          <p:nvPr/>
        </p:nvGraphicFramePr>
        <p:xfrm>
          <a:off x="457200" y="2176560"/>
          <a:ext cx="8229600" cy="3494160"/>
        </p:xfrm>
        <a:graphic>
          <a:graphicData uri="http://schemas.openxmlformats.org/presentationml/2006/ole">
            <p:oleObj r:id="rId1" spid="">
              <p:embed/>
              <p:pic>
                <p:nvPicPr>
                  <p:cNvPr id="135" name="" descr=""/>
                  <p:cNvPicPr/>
                  <p:nvPr/>
                </p:nvPicPr>
                <p:blipFill>
                  <a:blip r:embed="rId2"/>
                  <a:stretch/>
                </p:blipFill>
                <p:spPr>
                  <a:xfrm>
                    <a:off x="457200" y="2176560"/>
                    <a:ext cx="8229600" cy="3494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1-29T21:42:36Z</dcterms:modified>
  <cp:revision>13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