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626186-46E3-4A77-B0B8-8BDAE578FA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DA98A8B-3D6B-4D34-8E5E-9CA1523B19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076E29D-68D4-47C6-A945-8ABCCFC434D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0F80FF4-AE8E-41E1-9AFF-19E04E4D98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0890141-F771-43F0-A74B-02140F2DF60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27E6DF-97E1-4FE8-8ABC-76089E5623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C53D3-B5E9-4801-BC21-21B6178A9A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86E31-69D7-471C-B0EF-1F1927BD5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1C5F11-4262-4575-A719-D742ACF784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8C731-CDD3-41B8-ADF4-4E3453FCC9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F078B7-363F-46B5-82E0-F011699E2B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236698-95BE-4C38-B954-7C31D08527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16884CA-E268-4912-8DCB-2352E14CEC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466742-5648-448E-A513-87CC18CEE9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74F850-DC58-4B65-9541-7B85DE4084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B4EAD6A-9BAB-49D9-BBB5-B71A344FDF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2EE630B-61A0-4A6C-ABC0-1F95727704E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C928CC-A57D-49DB-ABB0-58AD0B6E85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0FFE86D-674A-4FCE-B6AE-FE83CF0ECD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74A2A2-5A55-4FAC-83C7-D4C4A05D0E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CB52B60-D332-46FD-BF99-5B8722237A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C8263F-505F-4574-83CE-5466762F66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D98826E-2054-4628-8E42-30C4200BE2D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C827C8-FAA4-4241-ACB6-F34F691459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C1A670-D4E9-4391-B3D7-2C64B294E864}"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54DF4-4775-40E8-9719-9478103EEE1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6CFB8-1631-46E0-81EF-C9555ECE565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228600" y="1980720"/>
            <a:ext cx="8686800" cy="38862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t;turboFilter</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class="c.q.l.c.turbo.UserTurboFilter"&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User&gt;sebastien&lt;/User&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OnMatch&gt;ACCEPT&lt;/OnMatch&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t;MDCKey&gt;username&lt;/MDCKey&gt;</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t;/turboFilter&g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6-11-29T07:49:35Z</dcterms:modified>
  <cp:revision>13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