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png" ContentType="image/png"/>
  <Override PartName="/ppt/media/image10.wmf" ContentType="image/x-wmf"/>
  <Override PartName="/ppt/media/image7.png" ContentType="image/png"/>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C38C1-4797-47DA-BE7D-6B4ED5BC4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B73952D-9EDD-4812-B687-811C6A91FE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065AFCD-D1B6-4264-B01D-0F2AB98D4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5C8FD77-CAA1-43F5-90E1-BB4E365D2BF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8B89D3A-A6A9-4439-8AAE-D90AF8D93CB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2E0A0E-EEE8-4702-9C3E-90E01373F8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03EFF4-5A0B-47EF-9563-8C6BDA6C58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B9382-0C77-4772-8448-410927B8C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B0D55-3E48-4582-B632-0F1BFA27A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135482-7AE9-4D65-92F7-73A7B36C67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18500-E16B-46C8-A431-ECF004652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1F813E-A5AC-4154-8CA1-91F8717A3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EA8DBB-0A32-49DD-B051-D62E611DF6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55C05C-69CF-481C-8A26-513A49966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8D43A-12F4-4BFD-ACF3-93A7C88E80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611CE-E228-4975-A79C-8A6DBFAE70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DC8B81-6DD2-495B-9B0E-CCADB1B2A5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9F7FC1-B9DB-43D8-8FE2-DAC278F549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CB3D58-81F6-434A-A43D-1DE7C8FA0C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D1A2DC-38B9-426F-A849-72971175CF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B95A83A-7607-42E2-AC15-0D9A12ED40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B3736B-AD94-4AEB-A4F5-023151E28A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C87B3E2-FED1-4298-B73C-825176A50F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A4706B-9A59-4F64-898D-B2C60FAE13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5B65203-D14C-4B95-BC7B-BEA09AE33D5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F99FB-3CBD-4A27-8A5D-57B0E74181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FBCEE-5695-494A-840C-B92D6ABE992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hyperlink" Target="http://jira.qos.ch/" TargetMode="External"/><Relationship Id="rId6" Type="http://schemas.openxmlformats.org/officeDocument/2006/relationships/hyperlink" Target="http://jir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2364E80-AA00-40E9-A672-9EC20687C15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40" name=""/>
          <p:cNvGraphicFramePr/>
          <p:nvPr/>
        </p:nvGraphicFramePr>
        <p:xfrm>
          <a:off x="457200" y="2176560"/>
          <a:ext cx="8229600" cy="3494160"/>
        </p:xfrm>
        <a:graphic>
          <a:graphicData uri="http://schemas.openxmlformats.org/presentationml/2006/ole">
            <p:oleObj r:id="rId1" spid="">
              <p:embed/>
              <p:pic>
                <p:nvPicPr>
                  <p:cNvPr id="141"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16842AA-41D0-4A5A-869E-F06EF67D9C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43"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CDB20D4-CE25-4285-AACE-A450BAC5758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5"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972DF5-9230-4ECD-A952-105D7005A44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7"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D359F6-BECF-4381-AF45-E4C727057CB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9"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E6D8535-6610-4AC5-9197-E455889FA5B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ED6D2A3-4A12-4DBA-8D63-25A6397284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6A66D29-9759-49D5-B011-C33A6D889B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5"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7D2571-6C74-457C-9C4B-A72B964626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6830AF5-0D98-45D5-8A73-B476CAAB56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9"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FDED45-5C4A-48EF-A622-424D9B3B3A5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60FD54D-57E2-4F03-853D-1D90F84A66E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61"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D383A78-1576-466E-B51B-818CED1875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63"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FE25992-D93B-4C67-B0B9-B2EA5666B1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5"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3EC1495-188F-47E4-868D-4E4448A5DF8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7"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CC34DF-294C-49EE-8B81-75133863AC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833C36-2BFC-4D64-891E-8A6C635626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589CBA-DD6B-4F25-ACAF-73FA896EF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BB6B461-BE46-47C5-879F-1F1E18A561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74FBF8-EB04-4993-81C4-91AAC6D6AB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7"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jir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A2B4C0D-5FB8-4556-9165-91CA9C868FF8}" type="slidenum">
              <a:t>28</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7CFF72C-314B-485A-822B-058F62F53FB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C7A972-9700-4E9B-983C-A5D59D602F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LF4J in one slide</a:t>
            </a:r>
            <a:endParaRPr b="0" lang="en-US" sz="4400" spc="-1" strike="noStrike">
              <a:solidFill>
                <a:srgbClr val="000000"/>
              </a:solidFill>
              <a:latin typeface="Arial"/>
            </a:endParaRPr>
          </a:p>
        </p:txBody>
      </p:sp>
      <p:pic>
        <p:nvPicPr>
          <p:cNvPr id="128" name="" descr=""/>
          <p:cNvPicPr/>
          <p:nvPr/>
        </p:nvPicPr>
        <p:blipFill>
          <a:blip r:embed="rId1"/>
          <a:stretch/>
        </p:blipFill>
        <p:spPr>
          <a:xfrm>
            <a:off x="3276720" y="1066680"/>
            <a:ext cx="4998960" cy="5334120"/>
          </a:xfrm>
          <a:prstGeom prst="rect">
            <a:avLst/>
          </a:prstGeom>
          <a:ln w="0">
            <a:noFill/>
          </a:ln>
        </p:spPr>
      </p:pic>
      <p:sp>
        <p:nvSpPr>
          <p:cNvPr id="3" name="PlaceHolder 2"/>
          <p:cNvSpPr>
            <a:spLocks noGrp="1"/>
          </p:cNvSpPr>
          <p:nvPr>
            <p:ph type="sldNum" idx="2"/>
          </p:nvPr>
        </p:nvSpPr>
        <p:spPr/>
        <p:txBody>
          <a:bodyPr/>
          <a:p>
            <a:fld id="{50D18275-483A-4911-BD84-6469DB774A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30"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jul, log4j and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DAF3B8-54B5-400A-96A4-00F2FD8A25D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grate all jul, log4j and JCL calls (without changing a single line of code)</a:t>
            </a:r>
            <a:endParaRPr b="0" lang="en-US" sz="3200" spc="-1" strike="noStrike">
              <a:solidFill>
                <a:srgbClr val="000000"/>
              </a:solidFill>
              <a:latin typeface="Arial"/>
            </a:endParaRPr>
          </a:p>
        </p:txBody>
      </p:sp>
      <p:pic>
        <p:nvPicPr>
          <p:cNvPr id="132" name="" descr=""/>
          <p:cNvPicPr/>
          <p:nvPr/>
        </p:nvPicPr>
        <p:blipFill>
          <a:blip r:embed="rId1"/>
          <a:stretch/>
        </p:blipFill>
        <p:spPr>
          <a:xfrm>
            <a:off x="609480" y="1905120"/>
            <a:ext cx="7543800" cy="4359240"/>
          </a:xfrm>
          <a:prstGeom prst="rect">
            <a:avLst/>
          </a:prstGeom>
          <a:ln w="0">
            <a:noFill/>
          </a:ln>
        </p:spPr>
      </p:pic>
      <p:sp>
        <p:nvSpPr>
          <p:cNvPr id="3" name="PlaceHolder 2"/>
          <p:cNvSpPr>
            <a:spLocks noGrp="1"/>
          </p:cNvSpPr>
          <p:nvPr>
            <p:ph type="sldNum" idx="2"/>
          </p:nvPr>
        </p:nvSpPr>
        <p:spPr/>
        <p:txBody>
          <a:bodyPr/>
          <a:p>
            <a:fld id="{94F043F1-7CF6-47D1-A5FB-BBA7827AAB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28600" y="533520"/>
            <a:ext cx="769608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 better, faster, smaller.</a:t>
            </a:r>
            <a:endParaRPr b="0" lang="en-US" sz="4000" spc="-1" strike="noStrike">
              <a:solidFill>
                <a:srgbClr val="000000"/>
              </a:solidFill>
              <a:latin typeface="Arial"/>
            </a:endParaRPr>
          </a:p>
        </p:txBody>
      </p:sp>
      <p:graphicFrame>
        <p:nvGraphicFramePr>
          <p:cNvPr id="134" name=""/>
          <p:cNvGraphicFramePr/>
          <p:nvPr/>
        </p:nvGraphicFramePr>
        <p:xfrm>
          <a:off x="380880" y="1905120"/>
          <a:ext cx="8293320" cy="3519360"/>
        </p:xfrm>
        <a:graphic>
          <a:graphicData uri="http://schemas.openxmlformats.org/presentationml/2006/ole">
            <p:oleObj r:id="rId1" spid="">
              <p:embed/>
              <p:pic>
                <p:nvPicPr>
                  <p:cNvPr id="135" name="" descr=""/>
                  <p:cNvPicPr/>
                  <p:nvPr/>
                </p:nvPicPr>
                <p:blipFill>
                  <a:blip r:embed="rId2"/>
                  <a:stretch/>
                </p:blipFill>
                <p:spPr>
                  <a:xfrm>
                    <a:off x="380880" y="1905120"/>
                    <a:ext cx="8293320" cy="3519360"/>
                  </a:xfrm>
                  <a:prstGeom prst="rect">
                    <a:avLst/>
                  </a:prstGeom>
                  <a:ln w="0">
                    <a:noFill/>
                  </a:ln>
                </p:spPr>
              </p:pic>
            </p:oleObj>
          </a:graphicData>
        </a:graphic>
      </p:graphicFrame>
      <p:sp>
        <p:nvSpPr>
          <p:cNvPr id="3" name="PlaceHolder 2"/>
          <p:cNvSpPr>
            <a:spLocks noGrp="1"/>
          </p:cNvSpPr>
          <p:nvPr>
            <p:ph type="sldNum" idx="2"/>
          </p:nvPr>
        </p:nvSpPr>
        <p:spPr/>
        <p:txBody>
          <a:bodyPr/>
          <a:p>
            <a:fld id="{49811AA5-7187-4952-B6ED-F068384D36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7" name=""/>
          <p:cNvGraphicFramePr/>
          <p:nvPr/>
        </p:nvGraphicFramePr>
        <p:xfrm>
          <a:off x="457200" y="2055960"/>
          <a:ext cx="8229600" cy="3736800"/>
        </p:xfrm>
        <a:graphic>
          <a:graphicData uri="http://schemas.openxmlformats.org/presentationml/2006/ole">
            <p:oleObj r:id="rId1" spid="">
              <p:embed/>
              <p:pic>
                <p:nvPicPr>
                  <p:cNvPr id="138"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6A12598-2B5A-4F86-8737-548FFC3C8EC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8-06-03T15:45:49Z</dcterms:modified>
  <cp:revision>163</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