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6AFB4-3A04-4BD0-8D32-2BE1BD4722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CD3676-6FD3-4F9F-ACB8-3F7EF6E0A5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9B8F96-024B-4054-9C28-0D38C6F1D1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BF3CD1E-3A11-466F-9966-51E42BB12A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AB3FB1B-80D9-44CA-A50F-41F5A25CC5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1F90A97-6D7C-44C9-9AAE-A72F0ABCD5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879D7B0-F2F0-4EA6-9C0A-86AB871799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569B69-EA7C-4C9C-86B0-91FF47A79F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D53E1B7-390C-4958-AA55-ABF8253E86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EEF21A4-944B-4DD8-A872-783533DC6C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92D8DB8-E81F-4296-8FC7-964B1E98DE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279533-A161-417B-8806-51AD46EF61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2C31649-D3AF-4A99-9333-922973B5B5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1B148F-CE5E-4EEC-8581-33012E62AA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5791C6-C803-4ED9-A842-89DC98AC8B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452594-C67F-48FF-A309-F69C81C02C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305CE9B-B3B0-490D-A899-8E10C9856BD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767E38E-C95E-4F1E-8219-13E78F73046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BD73C7-631A-4548-BB78-81A2D703FF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F1A92E-99C8-46F2-958A-9CAC8505A9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049B3E8-2AF3-4E7E-982A-4329CE637C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C41DF54-8AA2-4178-8E51-AB2E196409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1FEB08-1BF8-4A0B-8BE4-F60C08ED0C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7AF0BE-7714-43FF-8DBC-E551691F6A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F7765B-9DD3-4C9D-A3E1-E93068BF42C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8DD4B-3256-41A6-A74D-392EF14F949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AFF7D-1035-43CE-A305-5A4F7CB7647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5788BCC-09ED-421B-A6F6-C913E63FB17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E652FB-16B6-4C9B-ABBA-7BE151AD198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1773EE-3890-461D-B5CD-BDC341EDB76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4A604C-3823-4A02-9997-6C9DBBEED3B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0"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E86FBA-719F-4FD6-92CF-69D389E36DC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2"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386BD2-A25F-4147-B5B9-B5F43C43AD5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4"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548A4A-543A-4072-9652-28E8193B86D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6"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A422B5-1AA6-4A6A-A602-6C5EF54F894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48"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932EEE-7E1A-4D74-AEA5-FCC75B3DDB9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2A6F53-2833-4541-B489-F26282D7B27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3A2087-2FF3-4A4F-80ED-5B7991FB1A2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E10C8F7-4595-4D2D-ADE4-79CA01DE305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4"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B14DC2-1DB3-4476-A808-A73C1E56055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C1E8E1-61F9-4E43-9CE3-2ADC072D53D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17241B-CB5C-421F-BF1B-CD2A949F8FA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34B38E-33BF-42BB-95C6-1A608D79270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73D587F-7144-482F-8576-0665407E8A8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Appender and RollingFileAppender allow for the same log file to be written to by instances located in different JVM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now does TLS and SSL, subject line in outgoing emai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24E195-ED33-4899-8B11-92D894E7F2D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88C205-18AC-4ED3-9EAA-0031E5E43E0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D37DF3-0215-475B-BE64-C8ABCEF070C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0"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FE3C3E-41A2-4F34-8C2E-2A922C02A651}"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788E317-04DE-490F-8497-C913DEBFB85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B54D69-6505-438D-8252-E8F669C4451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2CF1F7-9AFD-4675-A7C2-D80A279A6B8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EAD00E-D8EF-49B4-88CC-403812544F2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508F10-FF58-4FCC-8811-F39E9548185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CC1695-85A2-47A8-B195-536034CF121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EC9CFC-3A35-4722-86B0-8D28E90AD54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12T10:06:41Z</dcterms:modified>
  <cp:revision>18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