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CAE041-DCCA-4737-853A-CA350CAE4D1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slf4j bridge (log4j-over-slf4j.jar), and the jakarta commons logging (JCL) to SLF4J  bridge (jcl104-over-slf4j.jar), users who currently log  through the log4j or JCL APIs can keep their existing log  statements (without change).  The bridge will redirect the log4j calls to slf4j which will in turn delegate to another logging system such as  logback or  java.util.logging (JUL).</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CL? Peace of cake! Just place slf4j-jcl.jar in you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class path. To bridge legacy log4j calls to SLF4J,  add log4j-over-slf4j.jar to your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log4j-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5143448-FA45-4892-8DA4-69F9D251C9C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7733CD2-F61A-421D-8E00-3E112BEAB91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D09F6839-2DA0-4981-9FB4-2343254BCC6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37D113A-C593-41E2-83D4-D8E4A12083C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968A473-1840-42D9-93CE-247D954DF18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8D3A18-1FC3-4F38-BEFA-EF1759127E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7FE4BD-0DA0-440B-90D8-E1C6475BDA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1B6B2D-3F9E-4BD1-A3E3-696EEFFB61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13F963-4505-4D8F-B31B-4718353C3C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06E608-AD07-4735-9249-3733B45EFC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F77699-949A-4090-936B-A88FDAFA74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7CF673E-034D-4D23-9EF5-7095ACA4B4F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B4D020-8656-4953-A744-665A779883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C65F84-E895-468C-BEC6-8BA7862334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EBEFC8-16CA-4487-A7C9-521664718C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5C8B578-3326-47DA-B2EA-44519734621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753AC43-4613-45A3-ADFF-B349A9CB048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6143290-D22B-493E-A4F9-43DC6624AD4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1F734C4-532E-4E30-9F9C-6EE51EA62D6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04F85C1-E14E-486B-BF70-2D4F3CBC4FF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5B5DB87-7D3F-4D83-8A38-615D94049E4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CE0CA14-47F2-43D2-AB56-94779889800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029B78F-9151-4A74-91CE-A088411D36D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60A7632-461A-47E8-AD56-9BAFB01D24B1}"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AD4EC3-8EB1-4DC6-84D5-E2E938704BD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725364-C8B7-48F3-B8B3-C64F33D9A8B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bugzilla.qos.ch/" TargetMode="External"/><Relationship Id="rId6" Type="http://schemas.openxmlformats.org/officeDocument/2006/relationships/hyperlink" Target="http://bugzilla.qos.ch/"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configuratio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3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configuration&g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1920" y="1447560"/>
            <a:ext cx="85345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configuratio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ActiveFileName&gt;access.log"&lt;/ActiveFileNam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ccess.</a:t>
            </a:r>
            <a:r>
              <a:rPr b="1" lang="en-US" sz="1800" spc="-1" strike="noStrike">
                <a:solidFill>
                  <a:srgbClr val="000000"/>
                </a:solidFill>
                <a:latin typeface="Courier New"/>
              </a:rPr>
              <a:t>%d</a:t>
            </a:r>
            <a:r>
              <a:rPr b="0" lang="en-US" sz="1800" spc="-1" strike="noStrike">
                <a:solidFill>
                  <a:srgbClr val="000000"/>
                </a:solidFill>
                <a:latin typeface="Courier New"/>
              </a:rPr>
              <a:t>.log.</a:t>
            </a:r>
            <a:r>
              <a:rPr b="1" lang="en-US" sz="1800" spc="-1" strike="noStrike">
                <a:solidFill>
                  <a:srgbClr val="000000"/>
                </a:solidFill>
                <a:latin typeface="Courier New"/>
              </a:rPr>
              <a:t>zip</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appender-ref ref="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configuration&g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stead of</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7200" y="1676160"/>
            <a:ext cx="8229600" cy="4724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a:t>
            </a:r>
            <a:r>
              <a:rPr b="0" lang="en-US" sz="3200" spc="-1" strike="noStrike" u="sng">
                <a:solidFill>
                  <a:srgbClr val="666699"/>
                </a:solidFill>
                <a:uFillTx/>
                <a:latin typeface="Arial"/>
                <a:hlinkClick r:id="rId5"/>
              </a:rPr>
              <a:t>bugzilla.qos.ch</a:t>
            </a:r>
            <a:r>
              <a:rPr b="0" lang="en-US" sz="3200" spc="-1" strike="noStrike" u="sng">
                <a:solidFill>
                  <a:srgbClr val="666699"/>
                </a:solidFill>
                <a:uFillTx/>
                <a:latin typeface="Arial"/>
                <a:hlinkClick r:id="rId6"/>
              </a:rPr>
              <a: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6"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28" name=""/>
          <p:cNvGraphicFramePr/>
          <p:nvPr/>
        </p:nvGraphicFramePr>
        <p:xfrm>
          <a:off x="838080" y="2209680"/>
          <a:ext cx="7925040" cy="3364200"/>
        </p:xfrm>
        <a:graphic>
          <a:graphicData uri="http://schemas.openxmlformats.org/presentationml/2006/ole">
            <p:oleObj r:id="rId1" spid="">
              <p:embed/>
              <p:pic>
                <p:nvPicPr>
                  <p:cNvPr id="129" name="" descr=""/>
                  <p:cNvPicPr/>
                  <p:nvPr/>
                </p:nvPicPr>
                <p:blipFill>
                  <a:blip r:embed="rId2"/>
                  <a:stretch/>
                </p:blipFill>
                <p:spPr>
                  <a:xfrm>
                    <a:off x="838080" y="2209680"/>
                    <a:ext cx="7925040" cy="3364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1" name=""/>
          <p:cNvGraphicFramePr/>
          <p:nvPr/>
        </p:nvGraphicFramePr>
        <p:xfrm>
          <a:off x="914400" y="1905120"/>
          <a:ext cx="6935760" cy="3981240"/>
        </p:xfrm>
        <a:graphic>
          <a:graphicData uri="http://schemas.openxmlformats.org/presentationml/2006/ole">
            <p:oleObj r:id="rId1" spid="">
              <p:embed/>
              <p:pic>
                <p:nvPicPr>
                  <p:cNvPr id="132" name="" descr=""/>
                  <p:cNvPicPr/>
                  <p:nvPr/>
                </p:nvPicPr>
                <p:blipFill>
                  <a:blip r:embed="rId2"/>
                  <a:stretch/>
                </p:blipFill>
                <p:spPr>
                  <a:xfrm>
                    <a:off x="914400" y="1905120"/>
                    <a:ext cx="6935760" cy="3981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4" name=""/>
          <p:cNvGraphicFramePr/>
          <p:nvPr/>
        </p:nvGraphicFramePr>
        <p:xfrm>
          <a:off x="457200" y="2176560"/>
          <a:ext cx="8229600" cy="3494160"/>
        </p:xfrm>
        <a:graphic>
          <a:graphicData uri="http://schemas.openxmlformats.org/presentationml/2006/ole">
            <p:oleObj r:id="rId1" spid="">
              <p:embed/>
              <p:pic>
                <p:nvPicPr>
                  <p:cNvPr id="135" name="" descr=""/>
                  <p:cNvPicPr/>
                  <p:nvPr/>
                </p:nvPicPr>
                <p:blipFill>
                  <a:blip r:embed="rId2"/>
                  <a:stretch/>
                </p:blipFill>
                <p:spPr>
                  <a:xfrm>
                    <a:off x="457200" y="2176560"/>
                    <a:ext cx="8229600" cy="3494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6-11-29T21:42:36Z</dcterms:modified>
  <cp:revision>135</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