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8443-AD0D-4ACC-BC2C-A2A870D9B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1DF30F-4CA9-4A29-BE0D-17EB38E73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DF05EE-FC12-4DFA-BFEA-B8673D2EC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E3CCAA-F8FE-49C1-AA68-1C52BA23F7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A03103-9145-4678-987B-2CF3A295F5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06505-1B96-46EB-820B-A0B0A7C33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F6551-DEAC-45D8-A66B-D648A9535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466EF-F651-4AD2-9BFB-FB0B934AC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F6318-9119-47FC-9240-E440D8A85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ED1B6-0EC3-4A83-92A6-2270C4905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636C2-2960-4E50-8FB1-282AC4931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7D5A3-6649-4717-91FF-D63775121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E3C8C0-59FE-4051-9C2C-6BC1F865F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0404E-133D-4029-B7BD-8915D334E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34D41-4EB2-4B7F-81D0-1AF3D6067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FFB48-4798-4675-AEFE-FB873E771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111BD-5F6B-4C19-8130-CDA004264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9163F-F947-4626-A9AB-5DA6E7E6C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F59622-173A-42E5-B058-DC73EFFB0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654060-315F-4B3C-B037-1A501CA34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1EC84D-4589-414D-9853-8D759845E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85B234-0D0C-4631-97DB-EF60455E3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3B9486-E0CD-4E8F-9AA0-4BD041D00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C6D7E1-0DF1-4E16-B9B6-C91542E64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171656-278F-4A43-81B8-E494F6EB91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0BD2-2C07-4EB6-BDFE-6083A51143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3938-A504-4159-BA9B-556F1C5549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0"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2"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4"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0"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4"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6"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8" name="PlaceHolder 2"/>
          <p:cNvSpPr>
            <a:spLocks noGrp="1"/>
          </p:cNvSpPr>
          <p:nvPr>
            <p:ph/>
          </p:nvPr>
        </p:nvSpPr>
        <p:spPr>
          <a:xfrm>
            <a:off x="151920" y="129528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0"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8"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8T22:16:54Z</dcterms:modified>
  <cp:revision>12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