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BFD2F-179E-42E7-B1F1-597D66746F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D2539A-AECD-483C-9800-331157D5DF6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8A5073-341E-4A4A-A08E-090AFD918B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BBD7246-5E37-44D0-AB80-A57AE4E62E6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D586BBF-DC5C-4B3A-AB04-C24747A06E3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A5C2B7B-CE0B-4352-A844-BD6D4DD6A2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0FEC9DF-E418-4C5E-BEEE-6BCB2FFF85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6A906CD-697C-40C2-9999-A7619ABB2F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C02989D-AC79-408B-A66F-D68B15FC83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53DD007-C525-459C-89BC-077DC9A524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6B40038-B454-4BD8-BF4C-8979F8062B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8FE8E4-A552-4485-B9D3-C0EB171FFF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7A26A80-AF64-46B8-A74D-8B531C379E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AE3718-6455-4D4D-9497-12B8BDF94C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BD658C-75C9-4049-B2D9-051E43BEAD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A5EA083-8924-4059-97DF-A53EA7A4F6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490CD0F-9A48-4C7B-BF6F-72E048020A3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362804B-EDC1-497B-9FB3-8C25FDC917C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7C0A6A-F60E-4E0F-A65D-7CF58E0284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3205C0-3408-4886-BC23-89BFF9073D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D11A43C-D7C5-42B9-9027-E060C00518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88359AC-A32A-4806-A055-7BD4B02EB5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BC95D1-5756-47E7-BE7D-1D448ED516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03CDBC-CC01-4468-9540-0059014ED0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C4A3CD-0D59-4064-A56F-29FDA9CCD12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CC3D1-55C2-4241-A75E-7DC6C8154D9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5FDF5-7C91-426F-9438-5B98BE9FABE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8910942-4E5C-428A-9F9A-1C5444C823E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2157FE-1047-4A23-B82C-C0C3B7FD9CF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AF24AF-3E47-43EF-873E-AC6BFD2390D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4A62D4-2F59-43E3-AE87-5A956E0A8E1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F7D4D6-48C7-471E-B94D-F61B5C7BC37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715A53-68D0-4FBF-A01B-A81FA018BBB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2A8C37-BDE7-4589-BEBF-0FDDD8BF761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30FFE9-C491-4D4F-99FE-E8023D69C70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464FD7-1EB0-4EF3-9C8A-35403205695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C9F39B-D2F4-4C68-8EF2-2AD8BEFB04A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C4B70E-1E8B-4EF4-8168-4050B9DBAB9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640422E-406D-498D-8C3F-5B6FA85919F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35F16D-E828-4DC3-A1B6-9D3A01A0508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6AFFB4-F127-483F-BC07-818C6D39AD4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69C6C3-0868-4D8A-999E-EC2419D87B8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C084907-EAC4-4A54-B249-B28854FECA0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Appender and RollingFileAppender allow for the same log file to be written to by instances located in different JVM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19C28F-9827-497C-A01C-421450BB7AB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1663A4-86F5-4A0E-ACA2-57BA8E84E84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CF71BE-FE15-4236-99A0-D8C1AD74C34F}"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57C6149-4D6A-457E-95BF-27383FE375F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5596AC-08CE-492A-AFBB-06D961E05D9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E45560-E809-4A19-A433-447271EB5A8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7DEF3D-F2B0-45C6-B47B-95DF43A8133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611EA9-536B-450C-9560-790E33B8157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12C3CB-BFEB-42E9-A766-DA09CEC4B60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7C51CF-61B7-4756-8ED6-40FC490746C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8-12-27T13:21:20Z</dcterms:modified>
  <cp:revision>17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