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68A44-FE06-4657-8D20-3F72848E76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391A4D7-197F-4430-A9CB-B2F68995B7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CFDF699-679C-4B0C-96C7-9D300993E0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9347B58-10AA-4E7B-9C2F-F6F5A56443F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F2C6F2B-2667-4910-9391-B5A238104A6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2D926B-6742-43A4-99AA-5116923550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678449-F611-4C10-8D04-77F7697F29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A7D556-764D-4BC5-9D8D-98BDD97D39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72CC2E-CF87-42E6-BDD2-B4C17D5E03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7AB35A-BCC5-40FC-B631-1BF765AC9E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A5427C-F7B5-4232-B748-408F28EEDA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CBFA9A-7458-4863-B823-FD2A30436E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AE0BCAA-A9DD-4E8D-8ABC-CA48216899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23AFF6-CD1F-4800-9CFD-CC4399AA72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97DEB7-2908-4CA1-A5D2-B46CA86D94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DA28B1-C325-4D49-B98F-8FDEF0127D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F8F9CA-65D5-4E7E-8DDA-F4C0E38487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82F992-9C0D-42C3-B67C-3A2BEA7D57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96B72BA-6E41-4A43-8FCC-215FE20FE9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FCE09C7-3E45-4C16-B1CE-4ECC1A3D5C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649CBDD-4275-4992-9D49-B2F9926923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7333803-C2CD-4ABA-B663-9A7019469D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AD6FEE2-A812-470B-8BCF-A3460C4B0F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8C74188-EC27-4523-9CEE-A9B28FEFD2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9E533D4-C17D-4924-B473-0532829FAC0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A9A85-C254-478B-9209-C1DDBDA4A7E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C6D5B-F312-448C-806B-8C6764E09B5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bugzilla.qos.ch/" TargetMode="External"/><Relationship Id="rId6" Type="http://schemas.openxmlformats.org/officeDocument/2006/relationships/hyperlink" Target="http://bugzill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3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1920" y="1447560"/>
            <a:ext cx="85345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ctiveFileName&gt;access.log"&lt;/ActiveFileNam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ccess.</a:t>
            </a:r>
            <a:r>
              <a:rPr b="1" lang="en-US" sz="1800" spc="-1" strike="noStrike">
                <a:solidFill>
                  <a:srgbClr val="000000"/>
                </a:solidFill>
                <a:latin typeface="Courier New"/>
              </a:rPr>
              <a:t>%d</a:t>
            </a:r>
            <a:r>
              <a:rPr b="0" lang="en-US" sz="1800" spc="-1" strike="noStrike">
                <a:solidFill>
                  <a:srgbClr val="000000"/>
                </a:solidFill>
                <a:latin typeface="Courier New"/>
              </a:rPr>
              <a:t>.log.</a:t>
            </a:r>
            <a:r>
              <a:rPr b="1" lang="en-US" sz="1800" spc="-1" strike="noStrike">
                <a:solidFill>
                  <a:srgbClr val="000000"/>
                </a:solidFill>
                <a:latin typeface="Courier New"/>
              </a:rPr>
              <a:t>zip</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ref ref="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ead of</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7200" y="167616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bugzill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6"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28" name=""/>
          <p:cNvGraphicFramePr/>
          <p:nvPr/>
        </p:nvGraphicFramePr>
        <p:xfrm>
          <a:off x="838080" y="2209680"/>
          <a:ext cx="7925040" cy="3364200"/>
        </p:xfrm>
        <a:graphic>
          <a:graphicData uri="http://schemas.openxmlformats.org/presentationml/2006/ole">
            <p:oleObj r:id="rId1" spid="">
              <p:embed/>
              <p:pic>
                <p:nvPicPr>
                  <p:cNvPr id="129" name="" descr=""/>
                  <p:cNvPicPr/>
                  <p:nvPr/>
                </p:nvPicPr>
                <p:blipFill>
                  <a:blip r:embed="rId2"/>
                  <a:stretch/>
                </p:blipFill>
                <p:spPr>
                  <a:xfrm>
                    <a:off x="838080" y="2209680"/>
                    <a:ext cx="7925040" cy="336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1" name=""/>
          <p:cNvGraphicFramePr/>
          <p:nvPr/>
        </p:nvGraphicFramePr>
        <p:xfrm>
          <a:off x="914400" y="1905120"/>
          <a:ext cx="6935760" cy="3981240"/>
        </p:xfrm>
        <a:graphic>
          <a:graphicData uri="http://schemas.openxmlformats.org/presentationml/2006/ole">
            <p:oleObj r:id="rId1" spid="">
              <p:embed/>
              <p:pic>
                <p:nvPicPr>
                  <p:cNvPr id="132" name="" descr=""/>
                  <p:cNvPicPr/>
                  <p:nvPr/>
                </p:nvPicPr>
                <p:blipFill>
                  <a:blip r:embed="rId2"/>
                  <a:stretch/>
                </p:blipFill>
                <p:spPr>
                  <a:xfrm>
                    <a:off x="914400" y="1905120"/>
                    <a:ext cx="6935760" cy="39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4" name=""/>
          <p:cNvGraphicFramePr/>
          <p:nvPr/>
        </p:nvGraphicFramePr>
        <p:xfrm>
          <a:off x="457200" y="2176560"/>
          <a:ext cx="8229600" cy="3494160"/>
        </p:xfrm>
        <a:graphic>
          <a:graphicData uri="http://schemas.openxmlformats.org/presentationml/2006/ole">
            <p:oleObj r:id="rId1" spid="">
              <p:embed/>
              <p:pic>
                <p:nvPicPr>
                  <p:cNvPr id="135" name="" descr=""/>
                  <p:cNvPicPr/>
                  <p:nvPr/>
                </p:nvPicPr>
                <p:blipFill>
                  <a:blip r:embed="rId2"/>
                  <a:stretch/>
                </p:blipFill>
                <p:spPr>
                  <a:xfrm>
                    <a:off x="457200" y="2176560"/>
                    <a:ext cx="8229600" cy="349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1-29T21:42:36Z</dcterms:modified>
  <cp:revision>13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