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7D929-7C6C-4CD7-AB30-D47A35812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02ECED-C2F9-4DFC-85CD-464CC7C187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7F6FA7-F29E-4FE1-8ED8-988B9D00EE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F53D948-82A0-49BE-BCA8-8F9AC46B38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4A7AE0-EDB2-49D7-87FC-65276C1165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9E7EC-BF28-4060-AA8A-60EE692999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F093A-26A7-4313-AAFC-E65B1C3B2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8A755-B4D5-460C-B701-C433B4746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109DB-DC53-409E-A86F-515515A7B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CCC78-E4C5-4682-9460-C3E750EF1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463CA-2812-4E9C-98CC-9A064E666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C2440-B5AE-4E89-B62B-D50B99AF8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6CBCC2-0FA1-4170-A1FA-1873E1BD9B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0728B-3CD9-440B-93B0-816D4B226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F551C-4FD5-4846-959D-6A1CA2D43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54BC0-CE4B-4909-93BE-9C21A9FED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C390F3-B274-4614-87CF-62E797F4DC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95421-B6DD-4D0F-8339-D9C70C9CEF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012874-2D36-4A51-BC17-285721F361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32F905-BFD4-4098-B465-8D75CD29F3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93C73F-DB4D-43FC-B2CD-6242722B53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25E3A4-A278-4845-BD5B-4C957E1250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E54735-12C0-4E56-8AEC-3C2127723F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FC4CD3-2DA4-4943-8BAF-D4F8BBF27F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178F8A-457A-4E01-ACA8-91CC74B56FF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1C46E-5512-4E59-BA8D-3340BD7E5D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E3C1-A3FD-47DA-B021-9E4E940D75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0"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FileAppender</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4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tEval"&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 != null &amp;&amp;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contains("Howdydy-diddly-h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gt;</a:t>
            </a:r>
            <a:r>
              <a:rPr b="0" lang="fr-F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s well with Jetty and Tomc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7" name=""/>
          <p:cNvGraphicFramePr/>
          <p:nvPr/>
        </p:nvGraphicFramePr>
        <p:xfrm>
          <a:off x="838080" y="2209680"/>
          <a:ext cx="7925040" cy="3364200"/>
        </p:xfrm>
        <a:graphic>
          <a:graphicData uri="http://schemas.openxmlformats.org/presentationml/2006/ole">
            <p:oleObj r:id="rId1" spid="">
              <p:embed/>
              <p:pic>
                <p:nvPicPr>
                  <p:cNvPr id="128"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0" name=""/>
          <p:cNvGraphicFramePr/>
          <p:nvPr/>
        </p:nvGraphicFramePr>
        <p:xfrm>
          <a:off x="914400" y="1905120"/>
          <a:ext cx="6935760" cy="3981240"/>
        </p:xfrm>
        <a:graphic>
          <a:graphicData uri="http://schemas.openxmlformats.org/presentationml/2006/ole">
            <p:oleObj r:id="rId1" spid="">
              <p:embed/>
              <p:pic>
                <p:nvPicPr>
                  <p:cNvPr id="131"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3" name=""/>
          <p:cNvGraphicFramePr/>
          <p:nvPr/>
        </p:nvGraphicFramePr>
        <p:xfrm>
          <a:off x="685800" y="2209680"/>
          <a:ext cx="7683480" cy="3262320"/>
        </p:xfrm>
        <a:graphic>
          <a:graphicData uri="http://schemas.openxmlformats.org/presentationml/2006/ole">
            <p:oleObj r:id="rId1" spid="">
              <p:embed/>
              <p:pic>
                <p:nvPicPr>
                  <p:cNvPr id="134" name="" descr=""/>
                  <p:cNvPicPr/>
                  <p:nvPr/>
                </p:nvPicPr>
                <p:blipFill>
                  <a:blip r:embed="rId2"/>
                  <a:stretch/>
                </p:blipFill>
                <p:spPr>
                  <a:xfrm>
                    <a:off x="685800" y="2209680"/>
                    <a:ext cx="7683480" cy="32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6"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8" name="PlaceHolder 2"/>
          <p:cNvSpPr>
            <a:spLocks noGrp="1"/>
          </p:cNvSpPr>
          <p:nvPr>
            <p:ph/>
          </p:nvPr>
        </p:nvSpPr>
        <p:spPr>
          <a:xfrm>
            <a:off x="152280" y="1295280"/>
            <a:ext cx="96012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6T22:13:43Z</dcterms:modified>
  <cp:revision>116</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