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D5A50-24E1-4245-8F3A-3A8C4345D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mentioned previously, we've used Joran (part of logback-core) to implement a monitoring framework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needed to recreate sophisticated test object anew each time we needed to perform a verification. Joran's unique capability of selectively replaying parts of a configuration was a perfect mat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cannot log because it has no notion of a "logger"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gers are defined in logback-class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short, a Status object contains a message, an origin, and a level. Moreover, a Status o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y have children, which may have children of their ow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ffective level of a Status is equal to highest level of either itself or in any one of its childr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t any depth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Status API is generic and can be used projects other than log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jouter une classe XYAppender, ajouter la config nécessaire dans logback-YY.xml et montrer que la config est faite toute seule, sans modifier quoi que se so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configuration: configurer un fichier xml avec une erreur (pas de TriggeringPolicy dans un RollingFileAppender) et montrer l'effet des status objects et le lien 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 page codes.html. Logback se manifeste lorsqu'il y a une erreur et fourni une piste à suivre pour la résoud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consider code ready for distribution only after it is properly documented, which is the main reason why logback carries a 0.x version stamp instead of 1.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should we demo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_EXCEPTION ex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JMX coun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ast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ertain critical operations, for instance determining whether a log statement should be logged or not, has been significantly improved. This operation takes about 3 nanoseconds in logback versus 30 nanoseconds in log4j. Logback also creates loggers faster : 13 microseconds instead versus 23 microseconds for log4j. More importantly, it fetches an existing logger in 94 nanoseconds versus 2234 nanoseconds for log4j, a 23 fold improvement. The improvement over JUL is also far from insignific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maller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Each logger instance uses up about 40 bytes of memory version 160 bytes for log4j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ore bang for the buck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Logback does a better job of presenting logs, has much improved filtering and evaluation capability. In short, it does everything that log4j does and more, but b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ry to log4j, where we wrote many regression tests, in logback, we have learned our lesson well. We write many more unit tests and fewer integration t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modules forms the foundation upon which the other two modules are built. Interestingly enough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ore has no notion of such a thing as a logger. We have recently built a monitoring framework on top of just logback-core (without logback classic or acces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classic relies on logback-core for basic services. It natively implements the SLF4J AP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gback-access integrates with servlet containers. Thus, the capabilities of a fully-fledged logging system becomes available in any servlet contain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We are working on an log4j-slf4j bridge, similar to the existing jakarta commons logg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(JCL) to SLF4J  bridge. Users who currently log  through the log4j API can keep 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ir existing log  statements (without change).  The bridge will redirect the log4j call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which will in turn delegate to another   logging  system   such   as  logback   or   log4j  or   ev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ava.util.logging (JUL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Graphically, this can be represented as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        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 &gt;---+---&gt; SLF4J --&gt;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       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w, if you don't like logback and prefer JUL, you can do the following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log4j calls &gt;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JU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JUL  calls         &gt;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f you would prefer to stick with log4j, you can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LF4J calls        &gt;---+---&gt; SLF4J --+-&gt; log4j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             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egacy JCL   calls &gt;---+             ^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                                     </a:t>
            </a: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log4j calls &gt;------------------------+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Note that  in the  above diagrams, there  are no direct  logback call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because normally  one goes  through SLF4J to  log with logback.  It 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actually  a little  less convenient  to log  directly  through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stead   of   (indirectly)   with   SLF4J.  For   example,   logback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umentation  always uses SLF4J.  (There are  no examples  in log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docs that use logback directly.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In other words, SLF4J acts as a universal logging API bridging betwee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the various logging systems. Logback  is designed to support SLF4J AP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from the star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f you to delegate all logging to JCL? Peace of cake! Just place slf4j-jcl.jar in you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’s class path. To bridge legacy log4j calls to SLF4J,  add log4j-over-slf4j.jar to your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prefer to stick with log4j as your underlying logging system? No probl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place slf4j-log4j12.jar in your application’s class path. To bridge JCL call’s to SLF4J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 log4j-over-slf4j.jar in your app’s class pa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xample with MultiFileAppender might be interes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 is an abbreviation of  ch.qos.logb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c.q.l.c.r stands for ch.qos.logback.core.roll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CC77AD-CFC7-4CB8-992D-4D3DDC37C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D47AAE-8A4A-44AC-91F3-6A6F8F4EE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4F8F39-410B-4169-904B-F4B58955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AF8BAB-4234-4BC6-9D7F-19EC0549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1E5CA-21AF-47C0-AAC2-11DDD34A5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3DE04-471C-4C30-9EA0-2714F9959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D456B5-B2DC-4041-A9A7-880317FD3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C2EF3-0378-4979-8946-B334B3423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99857-E651-4458-86CC-B429D1C83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2653D-FE51-4C77-84E0-7131A22CE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6884B-6EA8-425D-8DCB-F0568D4FF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752CA-D1C2-49F7-B121-34EAA6457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94055-1FF5-4D90-B993-5CD579E9F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8FEB-2FBE-4ACA-AD75-B2A3F2D55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D8EE-56E3-457D-A106-A91199887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762A8-14D7-4431-8669-66784B16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47815-10DB-4D3F-9D35-1B64CE29DF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E4D40E-2181-454B-A244-560125E2F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CF2842-DB0B-48BC-9F0A-0581C66CD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3CEDE-1F46-449B-9454-CF3C3556C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FB3CE-7BCD-41DE-9A2E-B1E6FED8F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8575E-621A-4830-ADE8-BF1B4612A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0FA78-D579-4B39-88AD-B005583CC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38F12C-61B5-436B-B73B-E63E90F65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C716C-D8AE-4702-9232-5374D82525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" name="" descr=""/>
          <p:cNvPicPr/>
          <p:nvPr/>
        </p:nvPicPr>
        <p:blipFill>
          <a:blip r:embed="rId2"/>
          <a:stretch/>
        </p:blipFill>
        <p:spPr>
          <a:xfrm>
            <a:off x="7391520" y="0"/>
            <a:ext cx="1752480" cy="942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990720"/>
            <a:ext cx="7848360" cy="4572000"/>
            <a:chOff x="0" y="990720"/>
            <a:chExt cx="7848360" cy="4572000"/>
          </a:xfrm>
        </p:grpSpPr>
        <p:sp>
          <p:nvSpPr>
            <p:cNvPr id="53" name=""/>
            <p:cNvSpPr/>
            <p:nvPr/>
          </p:nvSpPr>
          <p:spPr>
            <a:xfrm>
              <a:off x="0" y="990720"/>
              <a:ext cx="3008520" cy="4572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472760" y="2117520"/>
              <a:ext cx="6375600" cy="168912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701720"/>
              <a:ext cx="2460240" cy="2104920"/>
              <a:chOff x="0" y="1701720"/>
              <a:chExt cx="2460240" cy="2104920"/>
            </a:xfrm>
          </p:grpSpPr>
          <p:sp>
            <p:nvSpPr>
              <p:cNvPr id="56" name=""/>
              <p:cNvSpPr/>
              <p:nvPr/>
            </p:nvSpPr>
            <p:spPr>
              <a:xfrm>
                <a:off x="491760" y="3379320"/>
                <a:ext cx="494640" cy="4273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472760" y="2117520"/>
                <a:ext cx="492840" cy="428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957680" y="1701720"/>
                <a:ext cx="502560" cy="4233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979560" y="3379320"/>
                <a:ext cx="501120" cy="4273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957680" y="2117520"/>
                <a:ext cx="502560" cy="428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979560" y="2539800"/>
                <a:ext cx="501120" cy="42192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39800"/>
                <a:ext cx="499680" cy="42192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472760" y="2539800"/>
                <a:ext cx="492840" cy="42192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91760" y="2955960"/>
                <a:ext cx="494640" cy="42948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979560" y="2955960"/>
                <a:ext cx="501120" cy="42948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right QOS.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17ED0-573D-4098-95BE-5DC336597D65}" type="slidenum">
              <a:rPr b="0" lang="fr-F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28600" y="304920"/>
            <a:ext cx="209556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6667560" y="0"/>
            <a:ext cx="2476440" cy="133344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logback.qos.ch/" TargetMode="External"/><Relationship Id="rId2" Type="http://schemas.openxmlformats.org/officeDocument/2006/relationships/hyperlink" Target="http://svn.qos.ch/" TargetMode="External"/><Relationship Id="rId3" Type="http://schemas.openxmlformats.org/officeDocument/2006/relationships/hyperlink" Target="mailto:logback-user@qos.ch" TargetMode="External"/><Relationship Id="rId4" Type="http://schemas.openxmlformats.org/officeDocument/2006/relationships/hyperlink" Target="http://bugzilla.qos.ch/" TargetMode="External"/><Relationship Id="rId5" Type="http://schemas.openxmlformats.org/officeDocument/2006/relationships/hyperlink" Target="http://bugzilla.qos.ch/" TargetMode="External"/><Relationship Id="rId6" Type="http://schemas.openxmlformats.org/officeDocument/2006/relationships/hyperlink" Target="http://bugzilla.qos.ch/" TargetMode="External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590560" y="1828800"/>
            <a:ext cx="601956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10 reasons to use logback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ROUGH DRAF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990720" y="4191120"/>
            <a:ext cx="7162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eki Gülcü &amp; Sébastien Pennec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other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1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30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!-- we need to configure a totally new tes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object for each run of the test --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DataSource class="c.w.JNDIDS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url&gt;jndi://com.wombat/ds"&lt;/ur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DataSourc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Shell name="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eriod&gt;60&lt;/period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test class="com.wombat.myTest2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&gt;c:/wombat/foo.properties&lt;/fil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testShel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ultiFileAppend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ternal error repor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 module cannot log to report its own sta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hing more generic is need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tus A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erface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Status 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INF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WAR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inal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i="1" lang="en-US" sz="1800" spc="-1" strike="noStrike">
                <a:solidFill>
                  <a:srgbClr val="000000"/>
                </a:solidFill>
                <a:latin typeface="Courier New"/>
              </a:rPr>
              <a:t>ERROR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= 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t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getEffectiveLevel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Object getOrigi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ring getMessag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Throwable getThrowable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hasChildren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add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remove(Status child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ublic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Iterator&lt;Status&gt; iterato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rrors in 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jor area of effor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Introdu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lete manual (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hort introduction to access logging with logback-access and Jet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introduction to Jor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avadoc, FAQ, error codes,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ltering and evalu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arkers for specialized handl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loring for highly-specialized processing of log stat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ss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s well with Jetty and Tomc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M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components can be configured using JM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1920" y="762120"/>
            <a:ext cx="76964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~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e basic plumbing only done bet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revolution, only evolu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, smaller, higher gas mileage, and generally more bang for the buc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2666880" y="838080"/>
            <a:ext cx="1524240" cy="102420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533520" y="914400"/>
            <a:ext cx="1676160" cy="90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ed &amp; Re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ttery of over 200 unit te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s written concomitantly with the co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is here and ready for use in product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dds and en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ollingFileAppender automatic file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MTPAppender subject 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 fold improvement in the speed of transporting logging events over the w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ger name abbreviation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Question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 the docs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http://logback.qos.ch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y the code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http://svn.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to us at 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3"/>
              </a:rPr>
              <a:t>logback-user@qos.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le a bug report at 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5"/>
              </a:rPr>
              <a:t>bugzilla.qos.ch</a:t>
            </a:r>
            <a:r>
              <a:rPr b="0" lang="en-US" sz="3200" spc="-1" strike="noStrike" u="sng">
                <a:solidFill>
                  <a:srgbClr val="666699"/>
                </a:solidFill>
                <a:uFillTx/>
                <a:latin typeface="Arial"/>
                <a:hlinkClick r:id="rId6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lk to us at +41 21 312 32 2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ular archite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class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-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5331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ogback-classic speaks SLF4J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(as mother tongu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delegate to log4j, logback, java.util.logging or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F4J can bridge log4j and JCL 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offers a native implementation of the SLF4J AP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gback exposes its logging API through SLF4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igrate all log4j and JCL calls (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changing a single line of cod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838080" y="2209680"/>
          <a:ext cx="7925040" cy="336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09680"/>
                    <a:ext cx="7925040" cy="33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o you prefer JU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914400" y="1905120"/>
          <a:ext cx="6935760" cy="39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6935760" cy="39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og4j first, log4j for ever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685800" y="2209680"/>
          <a:ext cx="7683480" cy="32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768348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oran: a bowl of fresh ai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n rules (patterns &amp; actions) it can configure any obje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is generic (can be used in your projec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oran can learn new rules on the fl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ith its implicit rules, you don’t even have to write your own rul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 can do partial repla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iguration example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280" y="1295280"/>
            <a:ext cx="96012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 name="FILE"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RollingFileAppender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rollingPoli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class="c.q.l.c.r.TimeBasedRollingPolic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ctiveFileName&gt;access.log"&lt;/ActiveFileNa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FileNamePattern&gt;access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%d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.log.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zi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FileNamePatter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rollingPolic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layout class="c.q.l.access.PatternLayout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Pattern"&gt;combined&lt;/Pattern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layout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append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appender-ref ref="FILE" 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&lt;/configura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21:33:38Z</dcterms:created>
  <dc:creator>Ceki </dc:creator>
  <dc:description/>
  <dc:language>en-US</dc:language>
  <cp:lastModifiedBy>Ceki Gülcü</cp:lastModifiedBy>
  <dcterms:modified xsi:type="dcterms:W3CDTF">2006-10-24T06:06:54Z</dcterms:modified>
  <cp:revision>92</cp:revision>
  <dc:subject>*Unrestricted*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Without Tagging">
    <vt:lpwstr>1</vt:lpwstr>
  </property>
</Properties>
</file>