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880F21-10B5-4BBC-8A89-91A32B734E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 to logback bridge (log4j-bridge.jar), and the jakarta commons logging (JCL) to SLF4J  bridge (jcl104-over-slf4j.jar), users who currently log  through the log4j or JCL APIs can keep their existing log  statements (without chang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UL? Peace of cake! Just place slf4j-jdk14.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jcl-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72957D8-CBE0-4B96-A33D-5AC702D9F9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71A7A2BB-71DF-4332-8F0C-32DEB3D583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D8EB601-AF8E-4EA6-8CC0-904ACF9B9D9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5F4A468-9570-4949-9C3E-EAE9E6BB324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066E43-1438-41B9-AAA6-D4A898A22F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D3B08E-50A0-43FE-947E-FE65DA64AD7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04A3C5-7925-49E2-A64B-BDDD70207D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C217A0-2324-4DC1-9D00-B511F48738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AE5BD7-A889-4ED3-AC75-7E6206AE52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B0A05A-5709-4C47-9852-6C0433F298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3525FD-9E5B-446F-9CD3-16867DC9D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6F2AFDC-486E-4171-ADED-5A62BFD4B24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4B8F1-8203-4959-AAE7-F3DA6D7E5F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0881C8-F65F-449F-B0C4-4F71B817BC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E1F080-E0A8-4B01-B363-77F670ED12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33F9CB-835D-4A69-9E27-21D15DBE3F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F96D325-B405-4008-88C8-DA727904AE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DFE039D-11D1-4992-BE5E-C78E68D0BE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5AD9F3D-617A-4234-A263-8CC6DE7939E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C530AAB-A98F-443F-AF95-2767FF78B4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1E5F661-2B8E-494A-BE27-C36949280A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47BB40-33DB-43BD-B9E2-1170E6CF865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7DFEB5-8B3A-47AD-BDAC-13C4386219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3DF6B70-6634-4E27-9EF2-241155968D7A}"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62C63-2015-4520-A61A-98D30F1552F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BD1EF-0A90-4CA5-8D75-194E55398EE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irc.freenode.net/#logback." TargetMode="External"/><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
        <p:nvSpPr>
          <p:cNvPr id="4" name="PlaceHolder 3"/>
          <p:cNvSpPr>
            <a:spLocks noGrp="1"/>
          </p:cNvSpPr>
          <p:nvPr>
            <p:ph type="sldNum" idx="6"/>
          </p:nvPr>
        </p:nvSpPr>
        <p:spPr/>
        <p:txBody>
          <a:bodyPr/>
          <a:p>
            <a:fld id="{15380C18-7125-4B1D-A060-8E18D023B7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F382866-87E5-46D5-A5A2-8837D6FBF32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2280" y="1447560"/>
            <a:ext cx="8763120" cy="51814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access.log"&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        &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a:t>
            </a:r>
            <a:r>
              <a:rPr b="1" lang="en-US" sz="2000" spc="-1" strike="noStrike">
                <a:solidFill>
                  <a:srgbClr val="000000"/>
                </a:solidFill>
                <a:latin typeface="Courier New"/>
              </a:rPr>
              <a:t>zip</a:t>
            </a:r>
            <a:r>
              <a:rPr b="0" lang="en-US" sz="2000" spc="-1" strike="noStrike">
                <a:solidFill>
                  <a:srgbClr val="000000"/>
                </a:solidFill>
                <a:latin typeface="Courier New"/>
              </a:rPr>
              <a:t>&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5F7ADE2E-5B9C-4CD5-B3A8-5AFA0B04DF1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A388D680-5DF7-464E-910D-4C08C084F90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D225F3B-D345-4868-A43F-4005AE1E1F8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7A68176-16E2-4626-B5E9-B0247C82A8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F1BE961-8B49-44D9-A0E4-0677D33611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D0C69CF-1263-4203-83EC-0762C54CD65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C6DF54A-481E-426A-A0B4-224103364F2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BB4BE96-C4FB-4494-B3E4-61A9F895725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30C6F33-E669-40FB-932F-08DE0449A9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
        <p:nvSpPr>
          <p:cNvPr id="4" name="PlaceHolder 3"/>
          <p:cNvSpPr>
            <a:spLocks noGrp="1"/>
          </p:cNvSpPr>
          <p:nvPr>
            <p:ph type="sldNum" idx="2"/>
          </p:nvPr>
        </p:nvSpPr>
        <p:spPr/>
        <p:txBody>
          <a:bodyPr/>
          <a:p>
            <a:fld id="{DCC32AB3-B57B-46E0-B9F5-5F495A1730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301ABAB-71C0-4D75-8139-BDFDB61F05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F85B8BA-A761-4E32-930C-41A3305EBD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75A576-CA68-45A6-A905-300E00DE79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98C4B08-6A51-413C-850E-8C791534705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65FB643-BE74-40F8-BEBB-E7C16EC17D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94BB300-19BE-40B2-9380-949EB22FCE9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bugzill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a:t>
            </a:r>
            <a:r>
              <a:rPr b="0" lang="en-US" sz="3200" spc="-1" strike="noStrike" u="sng">
                <a:solidFill>
                  <a:srgbClr val="666699"/>
                </a:solidFill>
                <a:uFillTx/>
                <a:latin typeface="Arial"/>
                <a:hlinkClick r:id="rId5"/>
              </a:rPr>
              <a:t>irc.freenode.net#logback</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31262F0-26EA-481A-96A5-E675F0DD1A76}"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
        <p:nvSpPr>
          <p:cNvPr id="4" name="PlaceHolder 3"/>
          <p:cNvSpPr>
            <a:spLocks noGrp="1"/>
          </p:cNvSpPr>
          <p:nvPr>
            <p:ph type="sldNum" idx="2"/>
          </p:nvPr>
        </p:nvSpPr>
        <p:spPr/>
        <p:txBody>
          <a:bodyPr/>
          <a:p>
            <a:fld id="{312DBDB4-B3EC-4A4F-8B2D-5CCBFAFBF6D2}"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B06BA57-A7DD-4720-8354-27D4EE24D8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8"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6443DA6-BA47-4641-AB6B-6F746428803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30" name=""/>
          <p:cNvGraphicFramePr/>
          <p:nvPr/>
        </p:nvGraphicFramePr>
        <p:xfrm>
          <a:off x="609480" y="2362320"/>
          <a:ext cx="7848720" cy="3332160"/>
        </p:xfrm>
        <a:graphic>
          <a:graphicData uri="http://schemas.openxmlformats.org/presentationml/2006/ole">
            <p:oleObj r:id="rId1" spid="">
              <p:embed/>
              <p:pic>
                <p:nvPicPr>
                  <p:cNvPr id="131" name="" descr=""/>
                  <p:cNvPicPr/>
                  <p:nvPr/>
                </p:nvPicPr>
                <p:blipFill>
                  <a:blip r:embed="rId2"/>
                  <a:stretch/>
                </p:blipFill>
                <p:spPr>
                  <a:xfrm>
                    <a:off x="609480" y="2362320"/>
                    <a:ext cx="7848720" cy="3332160"/>
                  </a:xfrm>
                  <a:prstGeom prst="rect">
                    <a:avLst/>
                  </a:prstGeom>
                  <a:ln w="0">
                    <a:noFill/>
                  </a:ln>
                </p:spPr>
              </p:pic>
            </p:oleObj>
          </a:graphicData>
        </a:graphic>
      </p:graphicFrame>
      <p:sp>
        <p:nvSpPr>
          <p:cNvPr id="3" name="PlaceHolder 2"/>
          <p:cNvSpPr>
            <a:spLocks noGrp="1"/>
          </p:cNvSpPr>
          <p:nvPr>
            <p:ph type="sldNum" idx="2"/>
          </p:nvPr>
        </p:nvSpPr>
        <p:spPr/>
        <p:txBody>
          <a:bodyPr/>
          <a:p>
            <a:fld id="{3DFD963F-4A2D-4CEB-9400-C5EB46CC497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3" name=""/>
          <p:cNvGraphicFramePr/>
          <p:nvPr/>
        </p:nvGraphicFramePr>
        <p:xfrm>
          <a:off x="457200" y="2055960"/>
          <a:ext cx="8229600" cy="3736800"/>
        </p:xfrm>
        <a:graphic>
          <a:graphicData uri="http://schemas.openxmlformats.org/presentationml/2006/ole">
            <p:oleObj r:id="rId1" spid="">
              <p:embed/>
              <p:pic>
                <p:nvPicPr>
                  <p:cNvPr id="134" name="" descr=""/>
                  <p:cNvPicPr/>
                  <p:nvPr/>
                </p:nvPicPr>
                <p:blipFill>
                  <a:blip r:embed="rId2"/>
                  <a:stretch/>
                </p:blipFill>
                <p:spPr>
                  <a:xfrm>
                    <a:off x="457200" y="2055960"/>
                    <a:ext cx="8229600" cy="3736800"/>
                  </a:xfrm>
                  <a:prstGeom prst="rect">
                    <a:avLst/>
                  </a:prstGeom>
                  <a:ln w="0">
                    <a:noFill/>
                  </a:ln>
                </p:spPr>
              </p:pic>
            </p:oleObj>
          </a:graphicData>
        </a:graphic>
      </p:graphicFrame>
      <p:sp>
        <p:nvSpPr>
          <p:cNvPr id="3" name="PlaceHolder 2"/>
          <p:cNvSpPr>
            <a:spLocks noGrp="1"/>
          </p:cNvSpPr>
          <p:nvPr>
            <p:ph type="sldNum" idx="2"/>
          </p:nvPr>
        </p:nvSpPr>
        <p:spPr/>
        <p:txBody>
          <a:bodyPr/>
          <a:p>
            <a:fld id="{04FACA04-90B8-4457-A55B-4FF4D9E2FF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6" name=""/>
          <p:cNvGraphicFramePr/>
          <p:nvPr/>
        </p:nvGraphicFramePr>
        <p:xfrm>
          <a:off x="457200" y="2176560"/>
          <a:ext cx="8229600" cy="3494160"/>
        </p:xfrm>
        <a:graphic>
          <a:graphicData uri="http://schemas.openxmlformats.org/presentationml/2006/ole">
            <p:oleObj r:id="rId1" spid="">
              <p:embed/>
              <p:pic>
                <p:nvPicPr>
                  <p:cNvPr id="137" name="" descr=""/>
                  <p:cNvPicPr/>
                  <p:nvPr/>
                </p:nvPicPr>
                <p:blipFill>
                  <a:blip r:embed="rId2"/>
                  <a:stretch/>
                </p:blipFill>
                <p:spPr>
                  <a:xfrm>
                    <a:off x="457200" y="2176560"/>
                    <a:ext cx="8229600" cy="3494160"/>
                  </a:xfrm>
                  <a:prstGeom prst="rect">
                    <a:avLst/>
                  </a:prstGeom>
                  <a:ln w="0">
                    <a:noFill/>
                  </a:ln>
                </p:spPr>
              </p:pic>
            </p:oleObj>
          </a:graphicData>
        </a:graphic>
      </p:graphicFrame>
      <p:sp>
        <p:nvSpPr>
          <p:cNvPr id="3" name="PlaceHolder 2"/>
          <p:cNvSpPr>
            <a:spLocks noGrp="1"/>
          </p:cNvSpPr>
          <p:nvPr>
            <p:ph type="sldNum" idx="2"/>
          </p:nvPr>
        </p:nvSpPr>
        <p:spPr/>
        <p:txBody>
          <a:bodyPr/>
          <a:p>
            <a:fld id="{4BA2B5EE-0C7A-4B84-9060-EBD4E380EE3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CB483991-42C0-4155-A935-4F6D24AC5E8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Gülcü</cp:lastModifiedBy>
  <dcterms:modified xsi:type="dcterms:W3CDTF">2007-03-12T07:29:22Z</dcterms:modified>
  <cp:revision>152</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