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CEDA-00D7-471B-8164-21045848E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A9A1D2-1B02-4C81-B28C-482CF384D4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6B11AA-40CC-4FB6-855C-559CBB0643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7A7ACD-F079-4D74-BBB8-8141240ABB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FED50C-9944-4A07-AE9A-B2CC9E5B86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C383EC-CE33-4504-8F9E-8A7C201D56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2572D-7420-4028-A0E8-4C18B847E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7E6ED-2EE0-4A2D-89DA-3463D505A3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99550-0C16-4A0B-B58E-C0821C5BA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E0EEE-5AE1-482B-AADF-450122EAD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FA803-9E36-4FA8-8F9F-9FA0F1CEC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F13B5-BC62-40D5-BE30-3394843A9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DAAD3B-B2A8-4D11-A503-E9B6B43DA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83B9B-5CDE-4073-9DAA-AEA8B746A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C2B6D-57F8-48BD-9583-3ADE45F55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7C05A-E917-443F-8363-45116E5F2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A59D3A-E020-4F54-9A0A-B73D0080D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12A5B-6D30-4C28-B9C7-DE1EFF012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C20927-A9AD-4EDA-8214-1AB81A63F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F5C6B5-1C8A-4403-8BD3-8B2505179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A4B655-B3E3-44CE-A633-25F954DF4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4D6D2B-8A29-40AF-BE01-DE49ECE4EF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2E7C50-1B02-4C2B-8A98-D781BF26FD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7DE34A-3B99-446A-9480-7A1C782196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056F57-3317-4928-B964-A46EC20204B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3B68-0AB9-4D33-8FBA-0A9F626B68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0F09-F595-433B-8652-817191D2E9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228600" y="1980720"/>
            <a:ext cx="86868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class="c.q.l.c.turbo.UserTurboFilt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User&gt;sebastien&lt;/Us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OnMatch&gt;ACCEPT&lt;/OnMatch&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MDCKey&gt;username&lt;/MDCKey&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g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6-11-29T07:49:35Z</dcterms:modified>
  <cp:revision>13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