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95B157-07A5-4BC4-BCFC-5698202D425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67BFEA7-4F17-4158-ACB7-5ED99481853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AA404A7-BB5A-4265-AF6D-804F916DC9A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077CCB9-1D7F-4720-A2E8-CDA8935D5E7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DB1F1BD-CA02-41ED-8FAB-454FF02AF18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F098A18-D5CB-4215-8077-658DEB868A0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9B93511-34F1-49D6-90EE-1BB7C9B8FFE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6AAAAA1-60EA-4351-9495-B0B26AEFC11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F8F209E-228A-4D6D-8A69-E9923A356E4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3BF1E4B-197A-4801-85D9-002FF60B518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952392D-F74F-490D-9EA4-737ECB98180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D4A0AC5-A964-49E0-919B-C925C47C558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613672E-A414-49AD-B2B1-CAB03604FEB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0C4916D-E582-49B8-AE2D-298133F9D5E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677FC1D-F94F-41D7-AEC2-202CE0F5618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9A14741-D947-42D7-9E25-0CE8FDB0C71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53E1BFB-923F-474C-A66B-5CACC042709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4E46ED6-E862-467B-8A2E-D0A5C380E9D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CBF9FF-9EBF-4145-99B6-AF603406ADB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D48CFCE-CDCC-49BE-B195-670AF73104E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68C88EA-386E-4B7C-A172-835D9BB04D4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B2A59E9-FCAC-46EF-8D25-72F575A56D1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6D23CAD-7947-4A91-A625-6C94C6897EE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E140B12-7BE3-4457-8113-70D3E8DF987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ED37A8C-1FAE-4A9E-8C5F-E2DE53FC2E8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278324-4B9B-44D7-B9ED-9D055A1D28F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410D75-B184-401A-BC6A-FB4F7857CCB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9161E32-6D90-44FB-BCF1-1F6EFDB8DB5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415A03-0A10-44D0-A7F1-020DCF7E231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BACB09-9701-47D6-ABCB-4FB406D58DF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38"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56E0F1-5D00-4362-8F98-825D517F734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3BF4E7-78BF-42BD-8E2E-70E27E827F5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65A6AC2-7773-4A8E-8AA2-CD2A111CB98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A9F7E9-46DF-4071-889D-BB12D74DF0A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A26015-0A9F-45F1-9215-01F9FD960DD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A095FF-C1AE-49C7-A409-794B76C31B7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1ABAAFE-F72D-4B6E-8E74-CD949EB0A95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5FAA00-134E-4EC7-8BE1-2AAF32B1E99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32767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13958D5-C55D-49DB-8108-2503AFE8765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24C61B-86A6-43E1-AB05-3416A7AB2FD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BB67A0-C639-4043-9CB7-1B47988BC3F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58"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CCD3D50-AC15-4454-8888-75EFCA6EDA1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0"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0FE5C63-9447-48AF-BCBC-1B2D36D0B8B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2" name="PlaceHolder 2"/>
          <p:cNvSpPr>
            <a:spLocks noGrp="1"/>
          </p:cNvSpPr>
          <p:nvPr>
            <p:ph/>
          </p:nvPr>
        </p:nvSpPr>
        <p:spPr>
          <a:xfrm>
            <a:off x="457200" y="1600200"/>
            <a:ext cx="8229600" cy="46483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 the backgroun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Appender and RollingFileAppender allow for the same log file to be written to by instances located in different JVM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 in outgoing email</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A87698-71D9-41C1-97F4-4989A881DF8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6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successor of log4j.</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CECEDE-3B7E-4709-9DE4-9A5C510377F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66"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FB0B50-BBB3-4C5C-9A19-82A2CA4764A3}"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E65ACB4-C0D2-4786-BFD9-472CE7B1C69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07B852-397D-414E-A84B-4575A80A398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076993-0C79-4D44-B31D-07CF173DE22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18DCA0-0A9C-41BC-8BAD-0C8F72EE65E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424E50-4E17-49E6-9BDB-0C678C199C7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E284F4-B4D4-45F0-A0BF-51893D6ECF8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110A03-7440-4CE4-9EC3-70A0FD8C896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4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8-12-27T13:21:20Z</dcterms:modified>
  <cp:revision>172</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